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B0B3-9C76-42FE-897D-7984A5465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E0B2-1B4D-4DFA-835E-0CFAA4F5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13FB-DE58-4FE2-91EE-E91986CBA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50B2-EE79-4342-8C00-D2E93514D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C578-61C9-4897-8C0E-855EB3B8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DD58-6A7B-4DA1-95B5-C15959EA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644D-7090-47D2-B1E7-588929CF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4026-EDDE-41A7-A5E9-2FB5450B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EBA3-9D53-4F96-823B-839D1FADA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E0F8-4C26-4B2D-9384-C8AEEA44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FCD7-0983-4FB3-A4B6-E8F63A14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44CC-BCE7-4D39-A720-44EEA067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C9D8-86A9-4A75-9614-38EE7DE4E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gwilliam@hep.ph.liv.ac.uk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plusplus.com/doc/tutorial/preprocessor.html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685800" y="5904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Introduction to Programming using C+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1042920" y="2924280"/>
            <a:ext cx="69850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ecture Five: Introducing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258920" y="4581360"/>
            <a:ext cx="662616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Carl Gwilli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High Tower Text"/>
                <a:hlinkClick r:id="rId1"/>
              </a:rPr>
              <a:t>gwilliam@hep.ph.liv.ac.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http://hep.ph.liv.ac.uk/~gwilliam/cpp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laring a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mpl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will be designed to introduce the basic concepts of class constr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first iteration,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consists of two characteristics, the age and retail price of the c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446040" y="3068640"/>
            <a:ext cx="49179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r class is declared using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word followed by the name of the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riables declared inside the block are associated with this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known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ber variabl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ber 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5722920" y="3213000"/>
            <a:ext cx="2521080" cy="3751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 car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class Car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nt ageInYea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nt priceInGB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};  </a:t>
            </a: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 semi-co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     </a:t>
            </a: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// ter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673200" y="1816200"/>
            <a:ext cx="8229600" cy="16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468360" y="6381720"/>
            <a:ext cx="8229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yFiesta (previous slide) is an object that contains two inte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446040" y="3357720"/>
            <a:ext cx="82296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common misundersta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statement is trying to assign an age to the idea of a car, rather than age of particular c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o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 = 5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ke any sense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statement is accessing age without the dot operator. The car member variables only exist with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o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car class (else how do we know if w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 of myFiesta or myFerrari?)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ing Member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 variables are accessed by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er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ot operator is placed after name of the object and followed by the name of the desired member 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5076720" y="5950080"/>
            <a:ext cx="34560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ageInYears = 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2771640" y="2781360"/>
            <a:ext cx="345600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myFiesta.ageInYears = 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5076720" y="4221000"/>
            <a:ext cx="34560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Car.ageInYears = 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r 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526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r class has no advantages over using a one dimensional array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rray can only hold variables of the same type whilst classes can contain variables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y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ass is just being written as a data structure. A C-styl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used for this purpos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, but classes are much more powerful th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c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Unlike structs, members of a class are private by default, which encourages encapsulation (see lat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867280" y="2581200"/>
            <a:ext cx="2521080" cy="26542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class Car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nt ageInYea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nt priceInGB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}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867280" y="4890960"/>
            <a:ext cx="2521080" cy="2654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igh Tower Text"/>
              </a:rPr>
              <a:t>struct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Car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nt ageInYea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nt priceInGB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} </a:t>
            </a: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no semi-co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5867280" y="1700280"/>
            <a:ext cx="25210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int Car = {5,200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ber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82760"/>
            <a:ext cx="8229600" cy="12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lass is a collection of member variables and a set of related functions, known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ber fun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metho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5722920" y="2643120"/>
            <a:ext cx="2665440" cy="3020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class Car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nt ageInYea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nt priceInGB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void brak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void accelerat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}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446040" y="2565360"/>
            <a:ext cx="5133960" cy="42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 functions are also accessed using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er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distinguished from member variables by the use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enthe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ke other functions they can take arg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 functions have a role specific to the class they are declared in. They are primarily used to access and manipulate class member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5724360" y="5734080"/>
            <a:ext cx="26654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Car myFiest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myFiesta.brak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Member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fference between a normal function definition and a member function is the form of the function n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mber function name needs to be prefixed with the class it belongs to followed by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ope resolution operator :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yntax indicates to the compiler that the function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and can only be accessed through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627280" y="5084640"/>
            <a:ext cx="4608720" cy="1922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 brake member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void Car::brake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cout &lt;&lt; "Slowing down“ &lt;&lt; end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and Public Membe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519444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 members of a class are declared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rivate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y defaul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keyword is removed from class declaration the member variables and methods cannot be accessed from outside the clas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hy should the member data be private? I created the object so I should have access to all of its informatio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395280" y="4552920"/>
            <a:ext cx="8229600" cy="24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nk of the declaration as the acquisition of an object rather than the creation of an objec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inner workings are hidden from you for your own protection! You don’t need to know how the object works, all you need is an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to the object. This is known as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capsulation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formation hiding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651640" y="1413000"/>
            <a:ext cx="2952720" cy="3111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lass Car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nt ageInYea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nt priceInGB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void brak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void accelerat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ar myFies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// error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myFiesta.ageInYears = 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or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541008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mber data can be modified by call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mber functions known as accessor methods.  Accessor methods are commonly known as “getters” and “setter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hy go the trouble hiding the member data? It is easier for me to access the data directly through the dot operator rather than through this level of indirectio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5796000" y="1566720"/>
            <a:ext cx="2952720" cy="3813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lass Car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void brak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void accelerat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void setAge(int ag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int getAge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void setPrice(int pric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int getPri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priv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nt ageInYea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nt priceInGB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457200" y="5415120"/>
            <a:ext cx="8229600" cy="12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ccessor method will allow you to change the name of a member variable. This change is hidden from the user because of encaps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oint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mainder of this lecture will be used to construct a point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446040" y="4624560"/>
            <a:ext cx="8229600" cy="29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sign the interface, think in terms of the point obj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my ident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messages can you give 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my distance from the orig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my distance from another point in sp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201840" y="2587680"/>
            <a:ext cx="266544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nt main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Point a, 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 class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5194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itial interface design contains just accessor meth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mber data is private and the accessor functions are publ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as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la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interface, is put into a separa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le (this allows to minimise the dependencies between different pieces of cod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5796000" y="1566720"/>
            <a:ext cx="2952720" cy="5029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 point cla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class Point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void setX(float 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void setY(float 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void setZ(float z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float getX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float getY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float getZ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priv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float its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float its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float itsZ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7524720" y="612792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[Point.h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Preprocessor Mac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243080"/>
            <a:ext cx="8229600" cy="35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efore the compiler interprets code it is passed through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eprocess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whose task is to find preprocessor directives, or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acro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eprocessor macros are indicated by lines beginning with a hash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#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 fact, we have already been using 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#includ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ac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acros can also be used for other purposes, such as defining constants, although they are generally considered bad practi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Content Placeholder 2"/>
          <p:cNvSpPr/>
          <p:nvPr/>
        </p:nvSpPr>
        <p:spPr>
          <a:xfrm>
            <a:off x="428760" y="5857920"/>
            <a:ext cx="82296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or more information on macros se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http://www.cplusplus.com/doc/tutorial/preprocessor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ontent Placeholder 2"/>
          <p:cNvSpPr/>
          <p:nvPr/>
        </p:nvSpPr>
        <p:spPr>
          <a:xfrm>
            <a:off x="428760" y="4714920"/>
            <a:ext cx="485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ne place where macros are useful is to prevent a header file being included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5286240" y="4357800"/>
            <a:ext cx="3000600" cy="1465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#ifndef  MYHEADER_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#define MYHEADER_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//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#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xt 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have made it this fa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gratulations! You can program in C++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f you stop here you might as well have learnt a less syntactically complicated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xt half of the course will be spent introduc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 Orientat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O) programm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or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83552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accessor functions, along with other class methods, are placed in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le, seperate from the header file and the main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mplementation is totally separate from the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900000" y="4653000"/>
            <a:ext cx="3024360" cy="2288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#include “point.h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void Point::setX(float x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tsX = 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Point::getX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return its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5076720" y="1628640"/>
            <a:ext cx="3816360" cy="33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#include “point.h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nt mai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Point 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set coordinates for point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a.setX(2); a.setY(1); a.setZ(5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display coordin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out &lt;&lt;"vector coordinates a: 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&lt;&lt;a.getX()&lt;&lt;","&lt;&lt; a.getY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&lt;&lt;","&lt;&lt;a.getZ()&lt;&lt;end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3995640" y="4653000"/>
            <a:ext cx="49323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user of the point class will just need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lu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header file at the top of the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ordinates of the point are set and retrieved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2487600" y="62866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[Point.cpp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6985080" y="4103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[UsePoint.cpp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ance of Point from Orig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ublic class method is included that returns the distance of a point instance from the orig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4356000" y="2852640"/>
            <a:ext cx="4032360" cy="344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get distance from 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Point::distanceFromOrigi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distance = sqrt( pow(itsX,2)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+ pow(itsY,2) + pow(itsZ,2)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return distan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755640" y="2852640"/>
            <a:ext cx="3384720" cy="2838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declare point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lass Poin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distanceFromOrigi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priv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57200" y="573408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va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 variables can be used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methods from the same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6877080" y="49766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[Point.cpp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2916360" y="497664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[Point.h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ance between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oints distance from another point in sp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39640" y="1916280"/>
            <a:ext cx="6193080" cy="4057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distance between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Point::distanceFromPoint(float x, float y, float z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difX = itsX - 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difY = itsY -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difZ = itsZ - z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distance = sqrt( pow(difX,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+ pow(difY,2)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+ pow(difZ,2)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return distan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4716360" y="2997360"/>
            <a:ext cx="4032360" cy="314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nt mai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x = b.getX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y = b.getY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z = b.getZ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dist =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a.distanceFromPoint(x,y,z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5219640" y="19162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[Point.cpp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6804000" y="2997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[UsePoint.cpp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446040" y="6165720"/>
            <a:ext cx="8373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first iteratio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s of one of the Point’s is passed into the new Point’s membre function. There’s a better way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sing Objects into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8920" y="1239840"/>
            <a:ext cx="302436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oint object can be passed directly into the member fun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15"/>
          <p:cNvGrpSpPr/>
          <p:nvPr/>
        </p:nvGrpSpPr>
        <p:grpSpPr>
          <a:xfrm>
            <a:off x="2987640" y="1197000"/>
            <a:ext cx="5976720" cy="5741280"/>
            <a:chOff x="2987640" y="1197000"/>
            <a:chExt cx="5976720" cy="5741280"/>
          </a:xfrm>
        </p:grpSpPr>
        <p:sp>
          <p:nvSpPr>
            <p:cNvPr id="149" name="Text Box 7"/>
            <p:cNvSpPr/>
            <p:nvPr/>
          </p:nvSpPr>
          <p:spPr>
            <a:xfrm>
              <a:off x="2987640" y="2492280"/>
              <a:ext cx="5976720" cy="3660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High Tower Text"/>
                </a:rPr>
                <a:t>// distance between poi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float Point::distanceFromPoint(Point anotherPoint) {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float difX = itsX - anotherPoint.itsX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float difY = itsY - anotherPoint.itsY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float difZ = itsZ - anotherPoint.itsZ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float distance = sqrt( pow(difX,2) + pow(difY,2) +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                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pow(difZ,2) 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return distance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9"/>
            <p:cNvSpPr/>
            <p:nvPr/>
          </p:nvSpPr>
          <p:spPr>
            <a:xfrm>
              <a:off x="3419280" y="1197000"/>
              <a:ext cx="5400720" cy="1827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class Point {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public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float distanceFromPoint(Point anotherPoint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High Tower Text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}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4"/>
            <p:cNvSpPr/>
            <p:nvPr/>
          </p:nvSpPr>
          <p:spPr>
            <a:xfrm>
              <a:off x="3922560" y="5084640"/>
              <a:ext cx="4824360" cy="1853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int main() {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float distance =  a.distanceFromPoint(b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0"/>
            <p:cNvSpPr/>
            <p:nvPr/>
          </p:nvSpPr>
          <p:spPr>
            <a:xfrm>
              <a:off x="6804000" y="6272280"/>
              <a:ext cx="201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[UsePoint.cpp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1"/>
            <p:cNvSpPr/>
            <p:nvPr/>
          </p:nvSpPr>
          <p:spPr>
            <a:xfrm>
              <a:off x="7596000" y="1197000"/>
              <a:ext cx="12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[Point.h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2"/>
            <p:cNvSpPr/>
            <p:nvPr/>
          </p:nvSpPr>
          <p:spPr>
            <a:xfrm>
              <a:off x="7307280" y="4616280"/>
              <a:ext cx="158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[Point.cpp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Rectangle 13"/>
          <p:cNvSpPr/>
          <p:nvPr/>
        </p:nvSpPr>
        <p:spPr>
          <a:xfrm>
            <a:off x="179280" y="2608200"/>
            <a:ext cx="2808360" cy="29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ember variables from another point obj have to be accessed via the dot opera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.B. another object’s member data can be accessed directly by an object of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as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ou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ing public accessor fu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4"/>
          <p:cNvSpPr/>
          <p:nvPr/>
        </p:nvSpPr>
        <p:spPr>
          <a:xfrm>
            <a:off x="168120" y="5532480"/>
            <a:ext cx="346716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++ is not a ‘pure’ object orientated language! (there’s a compromise to enhance functiona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loading Class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36280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wo distance functions have different input args. Therefore a single member func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a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overloaded (polymorphis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loading similar functions simplifies the class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15"/>
          <p:cNvGrpSpPr/>
          <p:nvPr/>
        </p:nvGrpSpPr>
        <p:grpSpPr>
          <a:xfrm>
            <a:off x="611280" y="3213000"/>
            <a:ext cx="8064360" cy="3302640"/>
            <a:chOff x="611280" y="3213000"/>
            <a:chExt cx="8064360" cy="3302640"/>
          </a:xfrm>
        </p:grpSpPr>
        <p:sp>
          <p:nvSpPr>
            <p:cNvPr id="160" name="Text Box 8"/>
            <p:cNvSpPr/>
            <p:nvPr/>
          </p:nvSpPr>
          <p:spPr>
            <a:xfrm>
              <a:off x="611280" y="3213000"/>
              <a:ext cx="5400720" cy="2086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class Point {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public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float distanceFromOrigin(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float distanceFromPoint(Point anotherPoint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High Tower Text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}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1"/>
            <p:cNvSpPr/>
            <p:nvPr/>
          </p:nvSpPr>
          <p:spPr>
            <a:xfrm>
              <a:off x="4788000" y="3357720"/>
              <a:ext cx="12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[Point.h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3"/>
            <p:cNvSpPr/>
            <p:nvPr/>
          </p:nvSpPr>
          <p:spPr>
            <a:xfrm>
              <a:off x="3274920" y="4687920"/>
              <a:ext cx="5400720" cy="1827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class Point {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public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float distance();     </a:t>
              </a:r>
              <a:r>
                <a:rPr b="0" lang="en-US" sz="2000" spc="-1" strike="noStrike">
                  <a:solidFill>
                    <a:srgbClr val="333399"/>
                  </a:solidFill>
                  <a:latin typeface="High Tower Text"/>
                </a:rPr>
                <a:t>// from orig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float distance(Point anotherPoint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High Tower Text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}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14"/>
            <p:cNvSpPr/>
            <p:nvPr/>
          </p:nvSpPr>
          <p:spPr>
            <a:xfrm flipV="1">
              <a:off x="6227640" y="3715560"/>
              <a:ext cx="1584360" cy="7923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684360" y="1413000"/>
            <a:ext cx="7777080" cy="5306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point class 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lass Poin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Point(float x, float y, float z);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constru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Point();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~Point();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de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void setX(float x);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acces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void setY(float 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void setZ(float z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getX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getY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getZ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di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distance(Point anotherPoin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priv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itsX;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member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its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itsZ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 Class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8"/>
          <p:cNvGrpSpPr/>
          <p:nvPr/>
        </p:nvGrpSpPr>
        <p:grpSpPr>
          <a:xfrm>
            <a:off x="6802560" y="2349360"/>
            <a:ext cx="1656720" cy="1015920"/>
            <a:chOff x="6802560" y="2349360"/>
            <a:chExt cx="1656720" cy="1015920"/>
          </a:xfrm>
        </p:grpSpPr>
        <p:sp>
          <p:nvSpPr>
            <p:cNvPr id="167" name="AutoShape 5"/>
            <p:cNvSpPr/>
            <p:nvPr/>
          </p:nvSpPr>
          <p:spPr>
            <a:xfrm>
              <a:off x="6802560" y="2349360"/>
              <a:ext cx="1584000" cy="1008000"/>
            </a:xfrm>
            <a:prstGeom prst="wedgeRoundRectCallout">
              <a:avLst>
                <a:gd name="adj1" fmla="val -72944"/>
                <a:gd name="adj2" fmla="val -2912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7"/>
            <p:cNvSpPr/>
            <p:nvPr/>
          </p:nvSpPr>
          <p:spPr>
            <a:xfrm>
              <a:off x="6875280" y="2349360"/>
              <a:ext cx="1584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What ar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these? 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Revis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5152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ype defines the information that can be held by an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ype limits the actions that can be performed on the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ype is a method of determining the amount of memory that needs to be allocated for a new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5651640" y="1779480"/>
            <a:ext cx="3168360" cy="433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// C++ built-in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int a;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       </a:t>
            </a: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//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float b;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       </a:t>
            </a: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//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double c;    </a:t>
            </a: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//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bool d;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       </a:t>
            </a: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//boo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char e;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      </a:t>
            </a: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//charac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898560" y="5256360"/>
            <a:ext cx="792144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float height = 1.76;                    </a:t>
            </a: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 float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unsigned integer counter = 5;  </a:t>
            </a: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 type limits to int above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counter = counter / 3.6;            </a:t>
            </a: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 int conversion of r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ding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s are not just a method of expressing the precision of a value. A type i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ey to OO programming in C++ is the ability to create user defined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411280" y="3589200"/>
            <a:ext cx="4319640" cy="2288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 some decla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nt x, 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Particle electron, mu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Department physics, chemistr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Car myFiest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468360" y="5776920"/>
            <a:ext cx="82296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new types are declared and defined in the correct manner then all of the above statements are valid C++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there a need for new typ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have already written programs to model several real-world situations without need for 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611280" y="2381400"/>
            <a:ext cx="784836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ing Complex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the same programming logic be applied to the following complex syste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 engine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 optimisation within a 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le interaction with detector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Yes! Split problem into small group of calculations and store  relevant values in variables that have labels relevant to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programming allows the creation of new types that more accurately reflect the scenario to be mode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blem can be modeled in terms of objects and the interaction between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is seems contrary to our obsession with reducing any situation into a series of abstract mathematical statement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s of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Orientated programming is just a higher level of abstraction than you are currently used 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programs are already written in a high-level language. Can you answer these questions? Do you ca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bit sequence for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3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memory addresses are be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store your variabl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es program interpr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board  signals into ASCI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10"/>
          <p:cNvGrpSpPr/>
          <p:nvPr/>
        </p:nvGrpSpPr>
        <p:grpSpPr>
          <a:xfrm>
            <a:off x="5435640" y="3716280"/>
            <a:ext cx="3313080" cy="2448000"/>
            <a:chOff x="5435640" y="3716280"/>
            <a:chExt cx="3313080" cy="2448000"/>
          </a:xfrm>
        </p:grpSpPr>
        <p:sp>
          <p:nvSpPr>
            <p:cNvPr id="62" name="Rectangle 4"/>
            <p:cNvSpPr/>
            <p:nvPr/>
          </p:nvSpPr>
          <p:spPr>
            <a:xfrm>
              <a:off x="5435640" y="3800160"/>
              <a:ext cx="2718000" cy="2288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bjec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dul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at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ssembler langu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itwise 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Group 9"/>
            <p:cNvGrpSpPr/>
            <p:nvPr/>
          </p:nvGrpSpPr>
          <p:grpSpPr>
            <a:xfrm>
              <a:off x="8244000" y="3716280"/>
              <a:ext cx="504720" cy="2448000"/>
              <a:chOff x="8244000" y="3716280"/>
              <a:chExt cx="504720" cy="2448000"/>
            </a:xfrm>
          </p:grpSpPr>
          <p:sp>
            <p:nvSpPr>
              <p:cNvPr id="64" name="AutoShape 5"/>
              <p:cNvSpPr/>
              <p:nvPr/>
            </p:nvSpPr>
            <p:spPr>
              <a:xfrm>
                <a:off x="8604360" y="3716280"/>
                <a:ext cx="144360" cy="2448000"/>
              </a:xfrm>
              <a:prstGeom prst="upArrow">
                <a:avLst>
                  <a:gd name="adj1" fmla="val 50000"/>
                  <a:gd name="adj2" fmla="val 42394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Text Box 6"/>
              <p:cNvSpPr/>
              <p:nvPr/>
            </p:nvSpPr>
            <p:spPr>
              <a:xfrm rot="16200000">
                <a:off x="7455600" y="4721760"/>
                <a:ext cx="194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BSTRAC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s of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ling with objects and object interaction enables programs to be designed on a more intuitive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++ provides the syntax to allow you to manipulate user defined objects in the same way that integers and floating numbers are manipul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500040" y="5427720"/>
            <a:ext cx="7818480" cy="1830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mass1 = density1 * volume1;</a:t>
            </a: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          // statements establi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mass2 = density2 * volume2;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     </a:t>
            </a: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 values of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force = (G * mass1 * mass2) /pow(dist,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500040" y="3571920"/>
            <a:ext cx="7818480" cy="113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Planet a,b;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 information determ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a.force(b);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 by class dec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00040" y="4492800"/>
            <a:ext cx="7818480" cy="1483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mass1 = getMass(1);</a:t>
            </a: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                               // functions called to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force = getForce (G,mass1,mass2,dist); </a:t>
            </a:r>
            <a:r>
              <a:rPr b="0" lang="en-US" sz="2400" spc="-1" strike="noStrike">
                <a:solidFill>
                  <a:srgbClr val="7030a0"/>
                </a:solidFill>
                <a:latin typeface="High Tower Text"/>
              </a:rPr>
              <a:t>//</a:t>
            </a: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retrieve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8"/>
          <p:cNvGrpSpPr/>
          <p:nvPr/>
        </p:nvGrpSpPr>
        <p:grpSpPr>
          <a:xfrm>
            <a:off x="8353440" y="3838680"/>
            <a:ext cx="504720" cy="2448000"/>
            <a:chOff x="8353440" y="3838680"/>
            <a:chExt cx="504720" cy="2448000"/>
          </a:xfrm>
        </p:grpSpPr>
        <p:sp>
          <p:nvSpPr>
            <p:cNvPr id="72" name="AutoShape 5"/>
            <p:cNvSpPr/>
            <p:nvPr/>
          </p:nvSpPr>
          <p:spPr>
            <a:xfrm>
              <a:off x="8713800" y="3838680"/>
              <a:ext cx="144360" cy="2448000"/>
            </a:xfrm>
            <a:prstGeom prst="upArrow">
              <a:avLst>
                <a:gd name="adj1" fmla="val 50000"/>
                <a:gd name="adj2" fmla="val 42394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6"/>
            <p:cNvSpPr/>
            <p:nvPr/>
          </p:nvSpPr>
          <p:spPr>
            <a:xfrm rot="16200000">
              <a:off x="7565040" y="484416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BSTR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ing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defined types are referred to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bject is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a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class. A class is a category of objects. Several objects of a certain class can b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antiat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just like built in typ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468360" y="4076640"/>
            <a:ext cx="82296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r can be declared in the same way that an integer can be declared. The variabl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Fiest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ssociated with an object of typ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bject instance is not a single value. Math operators have to be assigned a new meaning in this con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763640" y="3141720"/>
            <a:ext cx="540072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nt x;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     </a:t>
            </a: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 equival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Car myFiesta, myFerrari;  </a:t>
            </a: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2050920" y="6237360"/>
            <a:ext cx="482472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someValue = myFerrari – myFies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0T20:01:49Z</dcterms:created>
  <dc:creator>sarah</dc:creator>
  <dc:description/>
  <dc:language>en-US</dc:language>
  <cp:lastModifiedBy>gwilliam</cp:lastModifiedBy>
  <dcterms:modified xsi:type="dcterms:W3CDTF">2009-10-02T10:40:56Z</dcterms:modified>
  <cp:revision>54</cp:revision>
  <dc:subject/>
  <dc:title>Slide 1</dc:title>
</cp:coreProperties>
</file>