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0ED-573A-46DC-9E89-6AAA5D7F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DCE-BA8C-4B44-94F2-2AA58DAB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3A0-D732-414A-A9DA-65454564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625-11AA-4E36-A111-541461A0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BA1-035F-4962-9060-560EB961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49D-0F9F-4647-B34C-8FCB0A7D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3B4-FAEC-4165-B3FE-6DD8974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FFD-D43F-4AA4-B013-11804681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012-EA07-4565-9711-6F675A05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FE5-25B0-441C-A64F-DB737E42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EC6-B51C-4C87-8386-7C36649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0D4-CFBE-4D6F-89D0-5929E4E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8523-C57B-4786-B977-538453DC1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371600" y="2924280"/>
            <a:ext cx="64008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Two: Further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are required to explain the purpose of th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s are not just required within the source code. Explanatory text is required for the user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input rout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079640" y="4305240"/>
            <a:ext cx="7092720" cy="302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// get a routine to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\nWhat would you like to do?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1 - Calculate the mean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2 - Calculate the standard deviation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3 - Order the sample lowest first”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in &gt;&gt; 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126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unction of the code is unclear to everyone apart from the auth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white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5051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urce code needs spacing ou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increase rea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iciency of the program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i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sp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liberally used throughout the sourc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seful to add line breaks to partition chunks of code 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s2.cp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435640" y="1467000"/>
            <a:ext cx="3565440" cy="52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calculate x_i -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d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1m = s1 - m_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1ms = pow(s1m,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2m = s2 - m_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2ms = pow(s2m,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3m = s3 - m_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3ms = pow(s3m,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d = s1ms + s2ms + s3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calculate st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_3 = md /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 = sqrt(m_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9640" y="4962600"/>
            <a:ext cx="568980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md=0; s1m=s1-m_2;s1ms=pow(s1m,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2m=s2-m_2;s2ms=pow(s2m,2); s3m=s3- m_2;s3ms=pow(s3m,2);md=s1ms+s2ms+s3ms; m_3=md/3;s=sqrt(m_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 N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program can be interpreted much easier if the variables have names that indicate their role within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words, descriptive names for variables enable other developers to follow the "story" told by th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95280" y="1341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 names bear no relation to their role in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52720" y="4653000"/>
            <a:ext cx="489600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_1 = s1 + s2 + s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um = sample1 + sample2 + sample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68360" y="4437000"/>
            <a:ext cx="2448000" cy="2183040"/>
          </a:xfrm>
          <a:prstGeom prst="wedgeRectCallout">
            <a:avLst>
              <a:gd name="adj1" fmla="val 82296"/>
              <a:gd name="adj2" fmla="val 23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8360" y="4437000"/>
            <a:ext cx="2374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conven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_of_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of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Of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on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referable to declare variables close to where they are first assigned a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ems too chaotic, why bother? This practice is introduced to implement an important feature of C++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68360" y="134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the variables are declared at the top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94000" y="1989000"/>
            <a:ext cx="516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++, a variable can be decl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where within the body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provided the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edes the assig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can be declared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26920" y="2133720"/>
            <a:ext cx="223236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int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fr-FR" sz="2400" spc="-1" strike="noStrike">
                <a:solidFill>
                  <a:srgbClr val="333399"/>
                </a:solidFill>
                <a:latin typeface="High Tower Text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y = x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time of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fetime of an object associated with a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with the declaration of th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s with the termination of the containing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95280" y="2565360"/>
            <a:ext cx="4032360" cy="484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 = 4; int y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y &gt; 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x = " &lt;&lt; x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y &gt; 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 = 7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diff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x = " &lt;&lt; x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x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origin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x = " &lt;&lt; x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500720" y="2637000"/>
            <a:ext cx="4606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variable nam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repeated in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of the blo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runs out of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has a sc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to the block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t was decl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stats3.cpp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8029440" y="4987800"/>
            <a:ext cx="790560" cy="1326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he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17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now like the program to accept a sample of any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s to add an option to dictate the size of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13161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program can only handle a data sample of a fixed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1280" y="3429000"/>
            <a:ext cx="561672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How big is the sample?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si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in &gt;&gt; si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484360" y="5805360"/>
            <a:ext cx="56167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um = sample1 + sample2 + sample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sumDivSize = (sum / 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68360" y="4869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is not enough to extend the sample size.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has been specifically written to process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he sampl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8355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 larger sample size be accommodated by simply adding more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but this is not sca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435640" y="1268280"/>
            <a:ext cx="3313080" cy="746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loat sampleSwa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f (sample1 &gt; sample2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Swap = sample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1 = sample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2 = sampleSwa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f (sample1 &gt; sample3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Swap = sample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1 = sample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3 = sampleSwa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f (sample2 &gt; sample3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Swap = sample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2 = sample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3 = sampleSwa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87280" y="2997360"/>
          <a:ext cx="3311640" cy="2016000"/>
        </p:xfrm>
        <a:graphic>
          <a:graphicData uri="http://schemas.openxmlformats.org/drawingml/2006/table">
            <a:tbl>
              <a:tblPr/>
              <a:tblGrid>
                <a:gridCol w="1657440"/>
                <a:gridCol w="16542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8"/>
          <p:cNvSpPr/>
          <p:nvPr/>
        </p:nvSpPr>
        <p:spPr>
          <a:xfrm>
            <a:off x="468360" y="511668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program 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olding the sampl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size is only to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d at run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obj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stored in an array is referred to as an arr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 arr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10 objects of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lement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[0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las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[9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76720" y="1378080"/>
            <a:ext cx="26636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type variable [siz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979640" y="4149720"/>
            <a:ext cx="49687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y = x[4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x[5] = {5.0,4.3,6.1,2.1,9.2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[2][3] = {{1,2,3},{4,5,6}};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5877000"/>
            <a:ext cx="76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s are an integral part of most other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but are approached with suspicion in C+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r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4581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ynamically assign memory (properly) you need to use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tax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int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e’ll cover thi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is is not the final solution as the routines are still limited to only accepting three valu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620720" y="2216160"/>
            <a:ext cx="561528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How big is the sample?"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si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in &gt;&gt; si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sample[size];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bad, bu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by some comp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* sample = new float[size];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 //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95280" y="1341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ray can be used to store a data sample of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size (memory is limi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r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is dependency by using a for loop to iterate through all the dat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332000" y="2708280"/>
            <a:ext cx="5976720" cy="411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calculate sum of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sampleCou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sampleCount = 1; sampleCount &lt;= siz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ampleCount = sampleCount + 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sampleCountArray = sampleCount -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um = sum + sample[sampleCountArray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alcul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67788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myNumber, nfactors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"Give me a number\n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in &gt;&gt; my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t factor = 1; factor &lt; myNumber; factor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(!(myNumber % factor)) &amp;&amp; (factor != 1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factor &lt;&lt; " is a factor\n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++nfacto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!nfactors) cout &lt;&lt; myNumber &lt;&lt; " is prime\n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ubble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47624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another (nested) for loop can significantly improve the current ordering routine to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66560" y="1208160"/>
            <a:ext cx="3313440" cy="746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loat sampleSwa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f (sample1 &gt; sample2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Swap = sample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1 = sample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2 = sampleSwa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f (sample1 &gt; sample3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Swap = sample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1 = sample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3 = sampleSwa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f (sample2 &gt; sample3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Swap = sample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2 = sample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ample3 = sampleSwa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997440" y="2633760"/>
            <a:ext cx="4895640" cy="411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t i = 0; i &lt; (size - 1); i = i + 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t j = 0; j &lt; (size - 1); j = j+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sample[j] &gt; sample[j+1]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loat swap = sample[j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ample[j] = sample[j+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ample[j+1] = swa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77080" y="6237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stats4.cpp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635280" y="3284640"/>
            <a:ext cx="576360" cy="1800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5362560" y="6237360"/>
            <a:ext cx="1297080" cy="503280"/>
          </a:xfrm>
          <a:prstGeom prst="rightArrow">
            <a:avLst>
              <a:gd name="adj1" fmla="val 50000"/>
              <a:gd name="adj2" fmla="val 644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C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input value for the routine is not in range 1 to 3 the code will compile but the program will not indicate an error back to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68360" y="1341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is no way of handling incorrect input by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76720" y="2924280"/>
            <a:ext cx="4282920" cy="375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you like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Calculate the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- Calculate the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- Order the sample lowes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big is th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1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2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3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68360" y="3602160"/>
            <a:ext cx="3384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assum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who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ode will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C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is to replace the sepa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with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140360" y="1700280"/>
            <a:ext cx="4535280" cy="411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request == 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 else if (request == 2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 else if (request == 3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err &lt;&lt; "Routine doen’t exist\n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900000" y="2060640"/>
            <a:ext cx="2449800" cy="448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request == 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request == 2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request == 3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84360" y="551664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zero return code indicates to os that program did not terminate success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r writes so stderr rather than stdout (also cl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490920" y="2781360"/>
            <a:ext cx="576360" cy="1800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88000" y="49878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stats5.cpp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necessary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ood coding practice to attain a balance between conciseness and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8360" y="57769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ss variables you have in an algorithm the less potential mistakes you will make! Well, almo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411280" y="126828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de is unnecessarily verb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11280" y="2638440"/>
            <a:ext cx="7561080" cy="375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calculate sum of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sampleCount;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declaration can be inside 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sampleCount = 1; sampleCount &lt;= siz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ampleCount = sampleCount + 1) {       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can use 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sampleCountArray = sampleCount -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above line is un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um = sum + sample[sampleCountArray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Assigned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mon coding practice to apply a mathematical operation to a variable and assign the result back to the same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116000" y="3645000"/>
            <a:ext cx="37432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x = x + 5;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add 5 to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x += 5;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add 5 to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x += n;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add n to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580000" y="2421000"/>
          <a:ext cx="2808360" cy="2448000"/>
        </p:xfrm>
        <a:graphic>
          <a:graphicData uri="http://schemas.openxmlformats.org/drawingml/2006/table">
            <a:tbl>
              <a:tblPr/>
              <a:tblGrid>
                <a:gridCol w="2087640"/>
                <a:gridCol w="72072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7"/>
          <p:cNvSpPr/>
          <p:nvPr/>
        </p:nvSpPr>
        <p:spPr>
          <a:xfrm>
            <a:off x="468360" y="2781360"/>
            <a:ext cx="50403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++, this can be achieved by applying self-assigned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3276720" y="5256360"/>
            <a:ext cx="511308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um = sum + sample[sampleCount-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more con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um += sample[sampleCount-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468360" y="5199120"/>
            <a:ext cx="30956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de is then more conci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stats6.cpp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 to the for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69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 loop is much more versatile than just ite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a conditional variable by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loops that provide the same resul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syntactic baggag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547640" y="14130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plify the iteration routines in th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692360" y="2073240"/>
            <a:ext cx="583236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calculate sum of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sampleCou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sampleCount = 1; sampleCount &lt;= siz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ampleCount = sampleCount + 1) {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um = sum + sample[sampleCount -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il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other types of loops you can use in C++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68360" y="3789360"/>
            <a:ext cx="821988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ements within the block are repeatedly executed while expression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oop should I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if it is possible that the statement block m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…wh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if the statement block has to be execu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116000" y="1938240"/>
            <a:ext cx="3240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hile (expressio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tat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003640" y="1916280"/>
            <a:ext cx="324036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tat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 while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ex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..wh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even if the condition is still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572000" y="4011480"/>
            <a:ext cx="338472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 = 0, y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hile (x &lt; 3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x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x == y) contin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x &lt;&lt; “\t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“end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572000" y="1916280"/>
            <a:ext cx="338472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t i = 0; i &lt; 5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i == 3)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i &lt;&lt; “\t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“end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468360" y="2349360"/>
            <a:ext cx="382752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can be used to exit the nearest enclosed 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can be used to skip remaining statements in th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’s one other unspeakable way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a loop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020000" y="3178080"/>
            <a:ext cx="20160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1   2  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7380360" y="5986440"/>
            <a:ext cx="154764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  3  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to, but don’t use it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goto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 in a while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become an iteration t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076720" y="1916280"/>
            <a:ext cx="28814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increment in //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hile (x++ &lt; 1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116000" y="1916280"/>
            <a:ext cx="288144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increment i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while (x &lt; 1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x++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227640" y="5373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324000" y="4437000"/>
            <a:ext cx="8353440" cy="3020040"/>
            <a:chOff x="324000" y="4437000"/>
            <a:chExt cx="8353440" cy="3020040"/>
          </a:xfrm>
        </p:grpSpPr>
        <p:sp>
          <p:nvSpPr>
            <p:cNvPr id="186" name="Text Box 4"/>
            <p:cNvSpPr/>
            <p:nvPr/>
          </p:nvSpPr>
          <p:spPr>
            <a:xfrm>
              <a:off x="324000" y="4437000"/>
              <a:ext cx="8353440" cy="3020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for (int sampleCount=1; sampleCount&lt;=size; sampleCount++) 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sum = sum + sample[sampleCount-1]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High Tower Text"/>
                </a:rPr>
                <a:t>//replaced by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int sampleCount = 0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igh Tower Text"/>
                </a:rPr>
                <a:t>while (++sampleCount&lt;=size) sum += sample[sampleCount-1]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6588000" y="534816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tats7.cpp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11292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ifetim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s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is called only o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, along with all the statements withi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, are repeatedly executed (or looped) until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ression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is fa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692360" y="1074600"/>
            <a:ext cx="54007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itialisation; condition; actio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tateme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tateme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828720" y="5256360"/>
            <a:ext cx="33116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nt i=1; i&lt;10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4572000" y="5213520"/>
            <a:ext cx="3960720" cy="1313640"/>
            <a:chOff x="4572000" y="5213520"/>
            <a:chExt cx="3960720" cy="1313640"/>
          </a:xfrm>
        </p:grpSpPr>
        <p:sp>
          <p:nvSpPr>
            <p:cNvPr id="51" name="Text Box 11"/>
            <p:cNvSpPr/>
            <p:nvPr/>
          </p:nvSpPr>
          <p:spPr>
            <a:xfrm>
              <a:off x="4572000" y="5213520"/>
              <a:ext cx="3887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ariabl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itialised to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 statements in b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remen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less than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inu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 flipH="1" flipV="1">
              <a:off x="8244000" y="5516640"/>
              <a:ext cx="288720" cy="100800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for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is much more than a simple it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itialisation, the condition and the action part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are 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ach of these statements can also include multipl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4360" y="3573360"/>
            <a:ext cx="3527280" cy="33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multiple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in init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i = 1, j = 0; i &lt; 10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iterator insid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 = i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789440" y="3573360"/>
            <a:ext cx="374328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or (;;) { 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“hello world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788000" y="4962600"/>
            <a:ext cx="3744720" cy="157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ello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ello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ello worl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ment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increments the value of an integer variable by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origin of the name “C++”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an integer variable by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56000" y="5405400"/>
            <a:ext cx="396072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++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the same as i = i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--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the same as i = i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24360" y="1484280"/>
            <a:ext cx="1368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actor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 and Post-fix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54100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both increment the valu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 by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perators will have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n your code, know wh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m and use them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229440" y="2349360"/>
            <a:ext cx="16556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actor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++n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82560" y="4292640"/>
            <a:ext cx="777708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nt x = 2, 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y = x++;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x incremented </a:t>
            </a:r>
            <a:r>
              <a:rPr b="1" lang="en-US" sz="2400" spc="-1" strike="noStrike">
                <a:solidFill>
                  <a:srgbClr val="333399"/>
                </a:solidFill>
                <a:latin typeface="High Tower Text"/>
              </a:rPr>
              <a:t>after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assignment -&gt; 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y = ++x; </a:t>
            </a: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 x incremented </a:t>
            </a:r>
            <a:r>
              <a:rPr b="1" lang="en-US" sz="2400" spc="-1" strike="noStrike">
                <a:solidFill>
                  <a:srgbClr val="333399"/>
                </a:solidFill>
                <a:latin typeface="High Tower Text"/>
              </a:rPr>
              <a:t>before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 assignment -&gt; y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68360" y="56674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ment and decrement operators are u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. The mathematical operators are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s are evaluated as false if their value is zero, true if non-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ditional statement can therefore consist of multiple expressions with logic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619280" y="1341360"/>
            <a:ext cx="61214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(!(myNumber % factor)) &amp;&amp; (factor != 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149800" y="3789360"/>
            <a:ext cx="31672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(x == 2) &amp;&amp; (y &gt; 5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if ((x == 2) || (y &gt; 5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95240" y="4149720"/>
          <a:ext cx="3632400" cy="1871640"/>
        </p:xfrm>
        <a:graphic>
          <a:graphicData uri="http://schemas.openxmlformats.org/drawingml/2006/table">
            <a:tbl>
              <a:tblPr/>
              <a:tblGrid>
                <a:gridCol w="1111320"/>
                <a:gridCol w="252108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neg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amp;&amp;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| |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27"/>
          <p:cNvSpPr/>
          <p:nvPr/>
        </p:nvSpPr>
        <p:spPr>
          <a:xfrm>
            <a:off x="4716360" y="4819680"/>
            <a:ext cx="41403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int x = 1, y = 1, z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if (x == 1 &amp;&amp; y &gt; 2 || z &lt; 3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cout &lt;&lt; “condition true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6659640" y="6093000"/>
            <a:ext cx="20160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nditio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 rot="16200000">
            <a:off x="-536040" y="47923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ECE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 flipV="1">
            <a:off x="684360" y="4005000"/>
            <a:ext cx="0" cy="21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statisti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now focus on the development of the small statistical calculation program 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s1.cp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2693880"/>
          <a:ext cx="6096240" cy="3040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stats1.ex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stats1.ex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stats1.ex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63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9" name="Rectangle 124"/>
          <p:cNvSpPr/>
          <p:nvPr/>
        </p:nvSpPr>
        <p:spPr>
          <a:xfrm>
            <a:off x="539640" y="59961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this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performs one of the following rout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input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input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put sample from lowest to highest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369720" y="2997360"/>
            <a:ext cx="8404560" cy="3138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539640" y="62308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is obvious from looking at the source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5:01:55Z</dcterms:created>
  <dc:creator>sarah</dc:creator>
  <dc:description/>
  <dc:language>en-US</dc:language>
  <cp:lastModifiedBy>NICE</cp:lastModifiedBy>
  <dcterms:modified xsi:type="dcterms:W3CDTF">2008-10-13T20:44:04Z</dcterms:modified>
  <cp:revision>68</cp:revision>
  <dc:subject/>
  <dc:title>Slide 1</dc:title>
</cp:coreProperties>
</file>