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B2819-13E7-4500-9FC3-CC7596AF5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D0923-48D8-4871-993E-04B638D8E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ACFA7-2B85-442E-A888-3DB91C745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34732-30D6-4FE0-84C1-0EA86AFC2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F0719-A1C6-4FBE-A0EB-196A7CEB9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480B7-A3B6-4F5E-AD66-26695196C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7493F-9DB2-4F61-88CC-1D23EC2AE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74887-AAE2-49C8-BC22-F788F17E8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169B1-E168-4041-A40E-399F7D063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4033A-D0F3-4766-B9BC-5BE30CC5F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99ECF-1F5F-4CB6-8744-F754B7C9D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13BC1-19DF-4C2B-A149-44531DFAA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EBC3A-A93A-4FA9-BEDF-A0585321A5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gwilliam@hep.ph.liv.ac.uk" TargetMode="External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59040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Arial"/>
              </a:rPr>
              <a:t>Introduction to Programming using C++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00000" y="2924280"/>
            <a:ext cx="7345440" cy="11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Lecture Seven: Designing Clas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258920" y="4581360"/>
            <a:ext cx="6626160" cy="16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High Tower Text"/>
              </a:rPr>
              <a:t>Carl Gwillia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9999"/>
                </a:solidFill>
                <a:uFillTx/>
                <a:latin typeface="High Tower Text"/>
                <a:hlinkClick r:id="rId1"/>
              </a:rPr>
              <a:t>gwilliam@hep.ph.liv.ac.u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High Tower Text"/>
              </a:rPr>
              <a:t>http://hep.ph.liv.ac.uk/~gwilliam/cppcour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5280" y="274320"/>
            <a:ext cx="83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ample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uctor and Destruct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7640" y="1225440"/>
            <a:ext cx="403236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tructor initialises data members by calling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vat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ber funcs to request data  interactively from the user of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mp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rray is placed on the heap rather than the sta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mpl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ct only contains the size and  address of array then  size of object will be constant regardless of size of input samp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4067280" y="1236600"/>
            <a:ext cx="4897440" cy="5688360"/>
            <a:chOff x="4067280" y="1236600"/>
            <a:chExt cx="4897440" cy="5688360"/>
          </a:xfrm>
        </p:grpSpPr>
        <p:sp>
          <p:nvSpPr>
            <p:cNvPr id="78" name=""/>
            <p:cNvSpPr/>
            <p:nvPr/>
          </p:nvSpPr>
          <p:spPr>
            <a:xfrm>
              <a:off x="4067280" y="1236600"/>
              <a:ext cx="4825800" cy="56883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High Tower Text"/>
                </a:rPr>
                <a:t>: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High Tower Text"/>
                </a:rPr>
                <a:t>Sample::Sample() {    </a:t>
              </a:r>
              <a:r>
                <a:rPr b="0" lang="en-US" sz="2000" spc="-1" strike="noStrike">
                  <a:solidFill>
                    <a:srgbClr val="333399"/>
                  </a:solidFill>
                  <a:latin typeface="High Tower Text"/>
                </a:rPr>
                <a:t>//constructo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High Tower Text"/>
                </a:rPr>
                <a:t>   </a:t>
              </a:r>
              <a:r>
                <a:rPr b="0" lang="en-US" sz="2000" spc="-1" strike="noStrike">
                  <a:solidFill>
                    <a:srgbClr val="000000"/>
                  </a:solidFill>
                  <a:latin typeface="High Tower Text"/>
                </a:rPr>
                <a:t>the_size = setSize();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High Tower Text"/>
                </a:rPr>
                <a:t>   </a:t>
              </a:r>
              <a:r>
                <a:rPr b="0" lang="en-US" sz="2000" spc="-1" strike="noStrike">
                  <a:solidFill>
                    <a:srgbClr val="000000"/>
                  </a:solidFill>
                  <a:latin typeface="High Tower Text"/>
                </a:rPr>
                <a:t>the_sample = setSample(the_size);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High Tower Text"/>
                </a:rPr>
                <a:t>}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High Tower Text"/>
                </a:rPr>
                <a:t>Sample::~Sample() {  </a:t>
              </a:r>
              <a:r>
                <a:rPr b="0" lang="en-US" sz="2000" spc="-1" strike="noStrike">
                  <a:solidFill>
                    <a:srgbClr val="333399"/>
                  </a:solidFill>
                  <a:latin typeface="High Tower Text"/>
                </a:rPr>
                <a:t>//destructo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High Tower Text"/>
                </a:rPr>
                <a:t>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High Tower Text"/>
                </a:rPr>
                <a:t>delete the_sample;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High Tower Text"/>
                </a:rPr>
                <a:t>}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High Tower Text"/>
                </a:rPr>
                <a:t>: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High Tower Text"/>
                </a:rPr>
                <a:t>int Sample::setSize() {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High Tower Text"/>
                </a:rPr>
                <a:t>   </a:t>
              </a:r>
              <a:r>
                <a:rPr b="0" lang="en-US" sz="2000" spc="-1" strike="noStrike">
                  <a:solidFill>
                    <a:srgbClr val="000000"/>
                  </a:solidFill>
                  <a:latin typeface="High Tower Text"/>
                </a:rPr>
                <a:t>cout &lt;&lt; "How big is the sample?" &lt;&lt; endl;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High Tower Text"/>
                </a:rPr>
                <a:t>   </a:t>
              </a:r>
              <a:r>
                <a:rPr b="0" lang="en-US" sz="2000" spc="-1" strike="noStrike">
                  <a:solidFill>
                    <a:srgbClr val="000000"/>
                  </a:solidFill>
                  <a:latin typeface="High Tower Text"/>
                </a:rPr>
                <a:t>int size; cin &gt;&gt; size;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High Tower Text"/>
                </a:rPr>
                <a:t>   </a:t>
              </a:r>
              <a:r>
                <a:rPr b="0" lang="en-US" sz="2000" spc="-1" strike="noStrike">
                  <a:solidFill>
                    <a:srgbClr val="000000"/>
                  </a:solidFill>
                  <a:latin typeface="High Tower Text"/>
                </a:rPr>
                <a:t>return size;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High Tower Text"/>
                </a:rPr>
                <a:t>}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High Tower Text"/>
                </a:rPr>
                <a:t>double* Sample::setSample(int size) {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High Tower Text"/>
                </a:rPr>
                <a:t>   </a:t>
              </a:r>
              <a:r>
                <a:rPr b="0" lang="en-US" sz="2000" spc="-1" strike="noStrike">
                  <a:solidFill>
                    <a:srgbClr val="000000"/>
                  </a:solidFill>
                  <a:latin typeface="High Tower Text"/>
                </a:rPr>
                <a:t>double* sample = new double[size];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High Tower Text"/>
                </a:rPr>
                <a:t>   </a:t>
              </a:r>
              <a:r>
                <a:rPr b="0" lang="en-US" sz="2000" spc="-1" strike="noStrike">
                  <a:solidFill>
                    <a:srgbClr val="333399"/>
                  </a:solidFill>
                  <a:latin typeface="High Tower Text"/>
                </a:rPr>
                <a:t>// read sample from keyboar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High Tower Text"/>
                </a:rPr>
                <a:t>   </a:t>
              </a:r>
              <a:r>
                <a:rPr b="0" lang="en-US" sz="1600" spc="-1" strike="noStrike">
                  <a:solidFill>
                    <a:srgbClr val="000000"/>
                  </a:solidFill>
                  <a:latin typeface="High Tower Text"/>
                </a:rPr>
                <a:t>: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High Tower Text"/>
                </a:rPr>
                <a:t>   </a:t>
              </a:r>
              <a:r>
                <a:rPr b="0" lang="en-US" sz="2000" spc="-1" strike="noStrike">
                  <a:solidFill>
                    <a:srgbClr val="000000"/>
                  </a:solidFill>
                  <a:latin typeface="High Tower Text"/>
                </a:rPr>
                <a:t>return sample;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High Tower Text"/>
                </a:rPr>
                <a:t>}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7129440" y="6237360"/>
              <a:ext cx="1835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[Sample.cpp]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ditional Construc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more constructors can be added to the clas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rst reads the sample from a given filena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converts an array (and it’s size) into a sample objec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47640" y="4370400"/>
            <a:ext cx="5977080" cy="2562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High Tower Text"/>
              </a:rPr>
              <a:t>#include ”Sample.h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int main(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Sample height("heightsample");    </a:t>
            </a:r>
            <a:r>
              <a:rPr b="0" lang="en-US" sz="2000" spc="-1" strike="noStrike">
                <a:solidFill>
                  <a:srgbClr val="333399"/>
                </a:solidFill>
                <a:latin typeface="High Tower Text"/>
              </a:rPr>
              <a:t>//filenames 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Sample weight("weightsample");  </a:t>
            </a:r>
            <a:r>
              <a:rPr b="0" lang="en-US" sz="2000" spc="-1" strike="noStrike">
                <a:solidFill>
                  <a:srgbClr val="333399"/>
                </a:solidFill>
                <a:latin typeface="High Tower Text"/>
              </a:rPr>
              <a:t>//char arr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double ageVal[5] = {7.2,18.6,21.3,34.7,45.6}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Sample age(ageVal,5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1547640" y="2887560"/>
            <a:ext cx="6120000" cy="1502280"/>
            <a:chOff x="1547640" y="2887560"/>
            <a:chExt cx="6120000" cy="1502280"/>
          </a:xfrm>
        </p:grpSpPr>
        <p:sp>
          <p:nvSpPr>
            <p:cNvPr id="84" name=""/>
            <p:cNvSpPr/>
            <p:nvPr/>
          </p:nvSpPr>
          <p:spPr>
            <a:xfrm>
              <a:off x="1547640" y="2924280"/>
              <a:ext cx="5977080" cy="14655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99"/>
                  </a:solidFill>
                  <a:latin typeface="High Tower Text"/>
                </a:rPr>
                <a:t>// constructor to read sample from fi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High Tower Text"/>
                </a:rPr>
                <a:t>Sample::Sample(char* filename) {…}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99"/>
                  </a:solidFill>
                  <a:latin typeface="High Tower Text"/>
                </a:rPr>
                <a:t>// constructor with sample inpu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High Tower Text"/>
                </a:rPr>
                <a:t>Sample::Sample(double* sampleArray, int size) {…}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59280" y="2887560"/>
              <a:ext cx="1908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[Sample.cpp]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Ordering Rout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382752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e order routine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rom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tats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an now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be included in the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ample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lass. The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order routine has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wo functions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turn ordered sample back to user whilst keeping the original sample intac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function call as to order sample inside the objec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Can also extend to order from highest first as well as lowest firs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3924360" y="1231920"/>
            <a:ext cx="5113440" cy="5702040"/>
            <a:chOff x="3924360" y="1231920"/>
            <a:chExt cx="5113440" cy="5702040"/>
          </a:xfrm>
        </p:grpSpPr>
        <p:grpSp>
          <p:nvGrpSpPr>
            <p:cNvPr id="89" name=""/>
            <p:cNvGrpSpPr/>
            <p:nvPr/>
          </p:nvGrpSpPr>
          <p:grpSpPr>
            <a:xfrm>
              <a:off x="3924360" y="1268280"/>
              <a:ext cx="5040360" cy="5665680"/>
              <a:chOff x="3924360" y="1268280"/>
              <a:chExt cx="5040360" cy="5665680"/>
            </a:xfrm>
          </p:grpSpPr>
          <p:sp>
            <p:nvSpPr>
              <p:cNvPr id="90" name=""/>
              <p:cNvSpPr/>
              <p:nvPr/>
            </p:nvSpPr>
            <p:spPr>
              <a:xfrm>
                <a:off x="3924360" y="1268280"/>
                <a:ext cx="4608360" cy="256284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High Tower Text"/>
                  </a:rPr>
                  <a:t>class Sample {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High Tower Text"/>
                  </a:rPr>
                  <a:t>public: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High Tower Text"/>
                  </a:rPr>
                  <a:t>  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High Tower Text"/>
                  </a:rPr>
                  <a:t>: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High Tower Text"/>
                  </a:rPr>
                  <a:t>  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High Tower Text"/>
                  </a:rPr>
                  <a:t>double mean() const;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High Tower Text"/>
                  </a:rPr>
                  <a:t>  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High Tower Text"/>
                  </a:rPr>
                  <a:t>double stdev() const;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High Tower Text"/>
                  </a:rPr>
                  <a:t>  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High Tower Text"/>
                  </a:rPr>
                  <a:t>double* order(int rank = 1) const;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High Tower Text"/>
                  </a:rPr>
                  <a:t>  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High Tower Text"/>
                  </a:rPr>
                  <a:t>void selfOrder(int rank = 1);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High Tower Text"/>
                  </a:rPr>
                  <a:t>: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High Tower Text"/>
                  </a:rPr>
                  <a:t>};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4284720" y="3357720"/>
                <a:ext cx="4464000" cy="228852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High Tower Text"/>
                  </a:rPr>
                  <a:t>double* Sample::order(int rank) const {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High Tower Text"/>
                  </a:rPr>
                  <a:t>  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High Tower Text"/>
                  </a:rPr>
                  <a:t>: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High Tower Text"/>
                  </a:rPr>
                  <a:t>  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High Tower Text"/>
                  </a:rPr>
                  <a:t>return newSampleArray;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High Tower Text"/>
                  </a:rPr>
                  <a:t>}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High Tower Text"/>
                  </a:rPr>
                  <a:t>void Sample::selfOrder(int rank) {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High Tower Text"/>
                  </a:rPr>
                  <a:t>  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High Tower Text"/>
                  </a:rPr>
                  <a:t>: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High Tower Text"/>
                  </a:rPr>
                  <a:t>}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4789440" y="4919760"/>
                <a:ext cx="4175280" cy="201420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High Tower Text"/>
                  </a:rPr>
                  <a:t>#include “Sample.h”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High Tower Text"/>
                  </a:rPr>
                  <a:t>int main() {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High Tower Text"/>
                  </a:rPr>
                  <a:t>: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High Tower Text"/>
                  </a:rPr>
                  <a:t>  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High Tower Text"/>
                  </a:rPr>
                  <a:t>double* newheight = height.order();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High Tower Text"/>
                  </a:rPr>
                  <a:t>  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High Tower Text"/>
                  </a:rPr>
                  <a:t>weight.selfOrder(2);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High Tower Text"/>
                  </a:rPr>
                  <a:t>}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>
              <a:off x="7091280" y="1231920"/>
              <a:ext cx="1513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[Sample.h]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732720" y="6272280"/>
              <a:ext cx="2305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[UseSample.cpp]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810560" y="3933720"/>
              <a:ext cx="938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[.cpp]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rrelation Class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4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input sample is now stored in a persistent way as long as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mpl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ct remains in sco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over, the functionality of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mpl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ass can be extended to include interactions betwee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mpl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example of this is a correlation metho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68360" y="5562720"/>
            <a:ext cx="822960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mpl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ct is passed (by reference) into 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mpl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ass method to calculate the correlation between the two samp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1547640" y="4149720"/>
            <a:ext cx="6121440" cy="1618560"/>
            <a:chOff x="1547640" y="4149720"/>
            <a:chExt cx="6121440" cy="1618560"/>
          </a:xfrm>
        </p:grpSpPr>
        <p:sp>
          <p:nvSpPr>
            <p:cNvPr id="100" name=""/>
            <p:cNvSpPr/>
            <p:nvPr/>
          </p:nvSpPr>
          <p:spPr>
            <a:xfrm>
              <a:off x="1547640" y="4149720"/>
              <a:ext cx="5977080" cy="16185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High Tower Text"/>
                </a:rPr>
                <a:t>double Sample::correlation(const Sample&amp; b) const {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High Tower Text"/>
                </a:rPr>
                <a:t>   </a:t>
              </a:r>
              <a:r>
                <a:rPr b="0" lang="en-US" sz="2000" spc="-1" strike="noStrike">
                  <a:solidFill>
                    <a:srgbClr val="000000"/>
                  </a:solidFill>
                  <a:latin typeface="High Tower Text"/>
                </a:rPr>
                <a:t>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High Tower Text"/>
                </a:rPr>
                <a:t>   </a:t>
              </a:r>
              <a:r>
                <a:rPr b="0" lang="en-US" sz="2000" spc="-1" strike="noStrike">
                  <a:solidFill>
                    <a:srgbClr val="000000"/>
                  </a:solidFill>
                  <a:latin typeface="High Tower Text"/>
                </a:rPr>
                <a:t>return correlation;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High Tower Text"/>
                </a:rPr>
                <a:t>}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724360" y="5048280"/>
              <a:ext cx="1944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[Sample.cpp]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ssing by Constant Re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rel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ber function a reference to 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mpl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ct is passed in rather than the entire obje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ssing by reference is a more efficient mechanism for objects because a local copy of the object does not have to be crea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by passing a reference to the object the function is able to modify the contents. To forbid modification the reference must be declare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This is known a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ssing by constant referen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1835280" y="5276880"/>
            <a:ext cx="6121440" cy="1618560"/>
            <a:chOff x="1835280" y="5276880"/>
            <a:chExt cx="6121440" cy="1618560"/>
          </a:xfrm>
        </p:grpSpPr>
        <p:sp>
          <p:nvSpPr>
            <p:cNvPr id="105" name=""/>
            <p:cNvSpPr/>
            <p:nvPr/>
          </p:nvSpPr>
          <p:spPr>
            <a:xfrm>
              <a:off x="1835280" y="5276880"/>
              <a:ext cx="5977080" cy="16185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High Tower Text"/>
                </a:rPr>
                <a:t>double Sample::correlation(</a:t>
              </a:r>
              <a:r>
                <a:rPr b="1" lang="en-US" sz="2000" spc="-1" strike="noStrike">
                  <a:solidFill>
                    <a:srgbClr val="000000"/>
                  </a:solidFill>
                  <a:latin typeface="High Tower Text"/>
                </a:rPr>
                <a:t>const</a:t>
              </a:r>
              <a:r>
                <a:rPr b="0" lang="en-US" sz="2000" spc="-1" strike="noStrike">
                  <a:solidFill>
                    <a:srgbClr val="000000"/>
                  </a:solidFill>
                  <a:latin typeface="High Tower Text"/>
                </a:rPr>
                <a:t> Sample&amp; b) const {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High Tower Text"/>
                </a:rPr>
                <a:t>   </a:t>
              </a:r>
              <a:r>
                <a:rPr b="0" lang="en-US" sz="2000" spc="-1" strike="noStrike">
                  <a:solidFill>
                    <a:srgbClr val="000000"/>
                  </a:solidFill>
                  <a:latin typeface="High Tower Text"/>
                </a:rPr>
                <a:t>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High Tower Text"/>
                </a:rPr>
                <a:t>   </a:t>
              </a:r>
              <a:r>
                <a:rPr b="0" lang="en-US" sz="2000" spc="-1" strike="noStrike">
                  <a:solidFill>
                    <a:srgbClr val="000000"/>
                  </a:solidFill>
                  <a:latin typeface="High Tower Text"/>
                </a:rPr>
                <a:t>return correlation;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High Tower Text"/>
                </a:rPr>
                <a:t>}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012000" y="6175440"/>
              <a:ext cx="1944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[Sample.cpp]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opying Ob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How do I copy the contents of an existing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ample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object into a new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ample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objec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mplier provides a defaul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p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truct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at performs 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mberwis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hallow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py of an obje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 member data are pointers then the address held by a pointer is copied to the new object. This causes two problem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original and the copy have member data that both point to the same object. A change to the member data in one object would lead to a member data modification in the oth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either the original or the copy go out of scope then the memory both point to is freed so the remaining object will contain a stray point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opying Ob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89120" y="1405080"/>
            <a:ext cx="5762520" cy="5319720"/>
            <a:chOff x="1689120" y="1405080"/>
            <a:chExt cx="5762520" cy="5319720"/>
          </a:xfrm>
        </p:grpSpPr>
        <p:sp>
          <p:nvSpPr>
            <p:cNvPr id="111" name=""/>
            <p:cNvSpPr/>
            <p:nvPr/>
          </p:nvSpPr>
          <p:spPr>
            <a:xfrm>
              <a:off x="1835280" y="1405080"/>
              <a:ext cx="5543640" cy="34084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High Tower Text"/>
                </a:rPr>
                <a:t>int main() {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High Tower Text"/>
                </a:rPr>
                <a:t>   </a:t>
              </a:r>
              <a:r>
                <a:rPr b="0" lang="en-US" sz="2200" spc="-1" strike="noStrike">
                  <a:solidFill>
                    <a:srgbClr val="000000"/>
                  </a:solidFill>
                  <a:latin typeface="High Tower Text"/>
                </a:rPr>
                <a:t>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High Tower Text"/>
                </a:rPr>
                <a:t>   </a:t>
              </a:r>
              <a:r>
                <a:rPr b="0" lang="en-US" sz="2200" spc="-1" strike="noStrike">
                  <a:solidFill>
                    <a:srgbClr val="000000"/>
                  </a:solidFill>
                  <a:latin typeface="High Tower Text"/>
                </a:rPr>
                <a:t>Sample weight(“weightsample”);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High Tower Text"/>
                </a:rPr>
                <a:t>   </a:t>
              </a:r>
              <a:r>
                <a:rPr b="0" lang="en-US" sz="2200" spc="-1" strike="noStrike">
                  <a:solidFill>
                    <a:srgbClr val="000000"/>
                  </a:solidFill>
                  <a:latin typeface="High Tower Text"/>
                </a:rPr>
                <a:t>if (makeCopy) {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High Tower Text"/>
                </a:rPr>
                <a:t>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High Tower Text"/>
                </a:rPr>
                <a:t>Sample aCopy(weight);  </a:t>
              </a:r>
              <a:r>
                <a:rPr b="0" lang="en-US" sz="2200" spc="-1" strike="noStrike">
                  <a:solidFill>
                    <a:srgbClr val="333399"/>
                  </a:solidFill>
                  <a:latin typeface="High Tower Text"/>
                </a:rPr>
                <a:t>// shallow copy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High Tower Text"/>
                </a:rPr>
                <a:t>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High Tower Text"/>
                </a:rPr>
                <a:t>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High Tower Text"/>
                </a:rPr>
                <a:t>   </a:t>
              </a:r>
              <a:r>
                <a:rPr b="0" lang="en-US" sz="2200" spc="-1" strike="noStrike">
                  <a:solidFill>
                    <a:srgbClr val="000000"/>
                  </a:solidFill>
                  <a:latin typeface="High Tower Text"/>
                </a:rPr>
                <a:t>} </a:t>
              </a:r>
              <a:r>
                <a:rPr b="0" lang="en-US" sz="2200" spc="-1" strike="noStrike">
                  <a:solidFill>
                    <a:srgbClr val="333399"/>
                  </a:solidFill>
                  <a:latin typeface="High Tower Text"/>
                </a:rPr>
                <a:t>// copy goes out of scope =&gt; d’tor 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333399"/>
                  </a:solidFill>
                  <a:latin typeface="High Tower Text"/>
                </a:rPr>
                <a:t>   </a:t>
              </a:r>
              <a:r>
                <a:rPr b="0" lang="en-US" sz="2200" spc="-1" strike="noStrike">
                  <a:solidFill>
                    <a:srgbClr val="000000"/>
                  </a:solidFill>
                  <a:latin typeface="High Tower Text"/>
                </a:rPr>
                <a:t>:</a:t>
              </a:r>
              <a:r>
                <a:rPr b="0" lang="en-US" sz="2200" spc="-1" strike="noStrike">
                  <a:solidFill>
                    <a:srgbClr val="333399"/>
                  </a:solidFill>
                  <a:latin typeface="High Tower Text"/>
                </a:rPr>
                <a:t> // frees memory containing the_sample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High Tower Text"/>
                </a:rPr>
                <a:t>}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2" name=""/>
            <p:cNvGrpSpPr/>
            <p:nvPr/>
          </p:nvGrpSpPr>
          <p:grpSpPr>
            <a:xfrm>
              <a:off x="1689120" y="2781360"/>
              <a:ext cx="5762520" cy="3943440"/>
              <a:chOff x="1689120" y="2781360"/>
              <a:chExt cx="5762520" cy="3943440"/>
            </a:xfrm>
          </p:grpSpPr>
          <p:pic>
            <p:nvPicPr>
              <p:cNvPr id="113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762200" y="4292640"/>
                <a:ext cx="5689440" cy="2432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" name=""/>
              <p:cNvSpPr/>
              <p:nvPr/>
            </p:nvSpPr>
            <p:spPr>
              <a:xfrm>
                <a:off x="1689120" y="2781360"/>
                <a:ext cx="576360" cy="0"/>
              </a:xfrm>
              <a:prstGeom prst="line">
                <a:avLst/>
              </a:prstGeom>
              <a:ln w="15840">
                <a:solidFill>
                  <a:srgbClr val="ffcc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689120" y="2781360"/>
                <a:ext cx="0" cy="2519280"/>
              </a:xfrm>
              <a:prstGeom prst="line">
                <a:avLst/>
              </a:prstGeom>
              <a:ln w="158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689120" y="5300640"/>
                <a:ext cx="144360" cy="0"/>
              </a:xfrm>
              <a:prstGeom prst="line">
                <a:avLst/>
              </a:prstGeom>
              <a:ln w="158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opy Construc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46040" y="256536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py constructor for the sample clas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pies the value of the sampl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s a new array on the free store and copies the contents of the existing sample into the new arra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24000" y="4095720"/>
            <a:ext cx="8424720" cy="33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High Tower Text"/>
              </a:rPr>
              <a:t>// copy constru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Sample::Sample(const Sample&amp; rhs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the_size = rhs.the_size;                        </a:t>
            </a:r>
            <a:r>
              <a:rPr b="0" lang="en-US" sz="2000" spc="-1" strike="noStrike">
                <a:solidFill>
                  <a:srgbClr val="333399"/>
                </a:solidFill>
                <a:latin typeface="High Tower Text"/>
              </a:rPr>
              <a:t>// assign size of array (straight cop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the_sample = new double[the_size];   </a:t>
            </a:r>
            <a:r>
              <a:rPr b="0" lang="en-US" sz="2000" spc="-1" strike="noStrike">
                <a:solidFill>
                  <a:srgbClr val="333399"/>
                </a:solidFill>
                <a:latin typeface="High Tower Text"/>
              </a:rPr>
              <a:t>// creat new array on heap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int iSample = 0;                                    </a:t>
            </a:r>
            <a:r>
              <a:rPr b="0" lang="en-US" sz="2000" spc="-1" strike="noStrike">
                <a:solidFill>
                  <a:srgbClr val="333399"/>
                </a:solidFill>
                <a:latin typeface="High Tower Text"/>
              </a:rPr>
              <a:t>// copy every element (not addres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while (++iSample &lt;= the_size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*(the_sample + (iSample-1)) = *(rhs.the_sample + (iSample-1)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340000" y="2133720"/>
            <a:ext cx="460836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Name::Name(const Name&amp;) {…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46040" y="1268280"/>
            <a:ext cx="822960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ault memberwise copying can be overwritten by writing a copy constructor which takes obj of same ty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verloading Opera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ow do I add two objects toge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meant by the above statement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the contents of the sample array element-wise or concatenate the sampl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oblem lies in the ambiguity of what it means to add two Sample objects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xact definition of addition can be included in the sample class. This is known a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rator overloa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3640" y="4869000"/>
            <a:ext cx="576108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High Tower Text"/>
              </a:rPr>
              <a:t>return_type operator sign (parameters) {…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763640" y="5516640"/>
            <a:ext cx="5761080" cy="1557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High Tower Text"/>
              </a:rPr>
              <a:t>Sample comb = weight + he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High Tower Text"/>
              </a:rPr>
              <a:t>// is actually equivalent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High Tower Text"/>
              </a:rPr>
              <a:t>Sample comb = weight.operator+(heigh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dding Two S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ddition operator is overloaded in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mpl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as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588000" y="4632480"/>
            <a:ext cx="2160720" cy="2014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int main(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Sample comb=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weight + heigh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826920" y="3533760"/>
            <a:ext cx="5545440" cy="33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Sample Sample::operator+ (const Sample&amp; rhs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000" spc="-1" strike="noStrike">
                <a:solidFill>
                  <a:srgbClr val="333399"/>
                </a:solidFill>
                <a:latin typeface="High Tower Text"/>
              </a:rPr>
              <a:t>// get total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int newsize = this-&gt;the_size + rhs.the_siz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000" spc="-1" strike="noStrike">
                <a:solidFill>
                  <a:srgbClr val="333399"/>
                </a:solidFill>
                <a:latin typeface="High Tower Text"/>
              </a:rPr>
              <a:t>// declare new array of total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double newSampleArray[newsize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000" spc="-1" strike="noStrike">
                <a:solidFill>
                  <a:srgbClr val="333399"/>
                </a:solidFill>
                <a:latin typeface="High Tower Text"/>
              </a:rPr>
              <a:t>// copy array from lhs of + into new array,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High Tower Text"/>
              </a:rPr>
              <a:t>   </a:t>
            </a:r>
            <a:r>
              <a:rPr b="0" lang="en-US" sz="2000" spc="-1" strike="noStrike">
                <a:solidFill>
                  <a:srgbClr val="333399"/>
                </a:solidFill>
                <a:latin typeface="High Tower Text"/>
              </a:rPr>
              <a:t>// copy array from rhs of + into new arr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return Sample(newSampleArray,newsiz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68360" y="2103480"/>
            <a:ext cx="82296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most all of the operators can be overloaded in an intuitive way, inclu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ignment opertor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unary operators, r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ation operators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delete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in Ob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6840" y="1268280"/>
            <a:ext cx="3970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f a class has data members on the heap, the memory associated to them must be freed when an object of that class goes out of scop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done by placing delete statements in the class’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struct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I don’t need to bother with that. The compiler doesn’t even warn me. Will it really affect the running of my program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4500720" y="1268280"/>
            <a:ext cx="4714560" cy="5854680"/>
            <a:chOff x="4500720" y="1268280"/>
            <a:chExt cx="4714560" cy="5854680"/>
          </a:xfrm>
        </p:grpSpPr>
        <p:sp>
          <p:nvSpPr>
            <p:cNvPr id="47" name=""/>
            <p:cNvSpPr/>
            <p:nvPr/>
          </p:nvSpPr>
          <p:spPr>
            <a:xfrm>
              <a:off x="4500720" y="1268280"/>
              <a:ext cx="4427280" cy="58546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High Tower Text"/>
                </a:rPr>
                <a:t>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High Tower Text"/>
                </a:rPr>
                <a:t>// constructo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High Tower Text"/>
                </a:rPr>
                <a:t>Point::Point(float x, float y, float z) {    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99"/>
                  </a:solidFill>
                  <a:latin typeface="High Tower Text"/>
                </a:rPr>
                <a:t>   </a:t>
              </a:r>
              <a:r>
                <a:rPr b="0" lang="en-US" sz="2000" spc="-1" strike="noStrike">
                  <a:solidFill>
                    <a:srgbClr val="333399"/>
                  </a:solidFill>
                  <a:latin typeface="High Tower Text"/>
                </a:rPr>
                <a:t>// value placed on hea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High Tower Text"/>
                </a:rPr>
                <a:t>   </a:t>
              </a:r>
              <a:r>
                <a:rPr b="0" lang="en-US" sz="2000" spc="-1" strike="noStrike">
                  <a:solidFill>
                    <a:srgbClr val="000000"/>
                  </a:solidFill>
                  <a:latin typeface="High Tower Text"/>
                </a:rPr>
                <a:t>itsX = new float(x);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High Tower Text"/>
                </a:rPr>
                <a:t>   </a:t>
              </a:r>
              <a:r>
                <a:rPr b="0" lang="en-US" sz="2000" spc="-1" strike="noStrike">
                  <a:solidFill>
                    <a:srgbClr val="000000"/>
                  </a:solidFill>
                  <a:latin typeface="High Tower Text"/>
                </a:rPr>
                <a:t>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High Tower Text"/>
                </a:rPr>
                <a:t>}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High Tower Text"/>
                </a:rPr>
                <a:t>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99"/>
                  </a:solidFill>
                  <a:latin typeface="High Tower Text"/>
                </a:rPr>
                <a:t>// destructor: delete memory on hea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High Tower Text"/>
                </a:rPr>
                <a:t>Point::~Point() {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High Tower Text"/>
                </a:rPr>
                <a:t>   </a:t>
              </a:r>
              <a:r>
                <a:rPr b="0" lang="en-US" sz="2000" spc="-1" strike="noStrike">
                  <a:solidFill>
                    <a:srgbClr val="000000"/>
                  </a:solidFill>
                  <a:latin typeface="High Tower Text"/>
                </a:rPr>
                <a:t>delete itsX;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High Tower Text"/>
                </a:rPr>
                <a:t>   </a:t>
              </a:r>
              <a:r>
                <a:rPr b="0" lang="en-US" sz="2000" spc="-1" strike="noStrike">
                  <a:solidFill>
                    <a:srgbClr val="000000"/>
                  </a:solidFill>
                  <a:latin typeface="High Tower Text"/>
                </a:rPr>
                <a:t>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High Tower Text"/>
                </a:rPr>
                <a:t>}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High Tower Text"/>
                </a:rPr>
                <a:t>   </a:t>
              </a:r>
              <a:r>
                <a:rPr b="0" lang="en-US" sz="2000" spc="-1" strike="noStrike">
                  <a:solidFill>
                    <a:srgbClr val="000000"/>
                  </a:solidFill>
                  <a:latin typeface="High Tower Text"/>
                </a:rPr>
                <a:t>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High Tower Text"/>
                </a:rPr>
                <a:t>float Point::getX() {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High Tower Text"/>
                </a:rPr>
                <a:t>   </a:t>
              </a:r>
              <a:r>
                <a:rPr b="0" lang="en-GB" sz="2000" spc="-1" strike="noStrike">
                  <a:solidFill>
                    <a:srgbClr val="333399"/>
                  </a:solidFill>
                  <a:latin typeface="High Tower Text"/>
                </a:rPr>
                <a:t>//deref ptr to get v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High Tower Text"/>
                </a:rPr>
                <a:t>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High Tower Text"/>
                </a:rPr>
                <a:t>return *itsX;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High Tower Text"/>
                </a:rPr>
                <a:t>}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High Tower Text"/>
                </a:rPr>
                <a:t>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093080" y="4005360"/>
              <a:ext cx="1726920" cy="25628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High Tower Text"/>
                </a:rPr>
                <a:t>class Point {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High Tower Text"/>
                </a:rPr>
                <a:t>public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High Tower Text"/>
                </a:rPr>
                <a:t>   </a:t>
              </a:r>
              <a:r>
                <a:rPr b="0" lang="en-US" sz="2000" spc="-1" strike="noStrike">
                  <a:solidFill>
                    <a:srgbClr val="000000"/>
                  </a:solidFill>
                  <a:latin typeface="High Tower Text"/>
                </a:rPr>
                <a:t>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High Tower Text"/>
                </a:rPr>
                <a:t>private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High Tower Text"/>
                </a:rPr>
                <a:t>   </a:t>
              </a:r>
              <a:r>
                <a:rPr b="0" lang="en-US" sz="2000" spc="-1" strike="noStrike">
                  <a:solidFill>
                    <a:srgbClr val="000000"/>
                  </a:solidFill>
                  <a:latin typeface="High Tower Text"/>
                </a:rPr>
                <a:t>float* itsX;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High Tower Text"/>
                </a:rPr>
                <a:t>   </a:t>
              </a:r>
              <a:r>
                <a:rPr b="0" lang="en-US" sz="2000" spc="-1" strike="noStrike">
                  <a:solidFill>
                    <a:srgbClr val="000000"/>
                  </a:solidFill>
                  <a:latin typeface="High Tower Text"/>
                </a:rPr>
                <a:t>float* itsY;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High Tower Text"/>
                </a:rPr>
                <a:t>   </a:t>
              </a:r>
              <a:r>
                <a:rPr b="0" lang="en-US" sz="2000" spc="-1" strike="noStrike">
                  <a:solidFill>
                    <a:srgbClr val="000000"/>
                  </a:solidFill>
                  <a:latin typeface="High Tower Text"/>
                </a:rPr>
                <a:t>float* itsZ;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High Tower Text"/>
                </a:rPr>
                <a:t>};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416720" y="1268280"/>
              <a:ext cx="1548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[Point.cpp]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667640" y="6056280"/>
              <a:ext cx="1547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[Point.h]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this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Keywo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keywor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presents a pointer to the object whose member function is being executed. It is a pointer to the obj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sel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of its uses can be to check if a parameter passed to a member function is the object itself (i.e. has the same addres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68360" y="6210360"/>
            <a:ext cx="822960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 is also used in overloading the assignment operator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4000" y="4330800"/>
            <a:ext cx="4249440" cy="1739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High Tower Text"/>
              </a:rPr>
              <a:t>bool AClass::isSame(AClass&amp; objec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High Tower Text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GB" sz="2000" spc="-1" strike="noStrike">
                <a:solidFill>
                  <a:srgbClr val="000000"/>
                </a:solidFill>
                <a:latin typeface="High Tower Text"/>
              </a:rPr>
              <a:t>if (this == &amp;object) return tru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GB" sz="2000" spc="-1" strike="noStrike">
                <a:solidFill>
                  <a:srgbClr val="000000"/>
                </a:solidFill>
                <a:latin typeface="High Tower Text"/>
              </a:rPr>
              <a:t>else return fals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High Tower Text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716360" y="3789360"/>
            <a:ext cx="4176720" cy="22885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High Tower Text"/>
              </a:rPr>
              <a:t>#include “AClass.h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High Tower Text"/>
              </a:rPr>
              <a:t>int main(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GB" sz="2000" spc="-1" strike="noStrike">
                <a:solidFill>
                  <a:srgbClr val="000000"/>
                </a:solidFill>
                <a:latin typeface="High Tower Text"/>
              </a:rPr>
              <a:t>AClass 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GB" sz="2000" spc="-1" strike="noStrike">
                <a:solidFill>
                  <a:srgbClr val="000000"/>
                </a:solidFill>
                <a:latin typeface="High Tower Text"/>
              </a:rPr>
              <a:t>AClass* b = &amp;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GB" sz="2000" spc="-1" strike="noStrike">
                <a:solidFill>
                  <a:srgbClr val="000000"/>
                </a:solidFill>
                <a:latin typeface="High Tower Text"/>
              </a:rPr>
              <a:t>if (b-&gt;isSame(a)) cout &lt;&lt; “Same\n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GB" sz="2000" spc="-1" strike="noStrike">
                <a:solidFill>
                  <a:srgbClr val="000000"/>
                </a:solidFill>
                <a:latin typeface="High Tower Text"/>
              </a:rPr>
              <a:t>return 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High Tower Text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492360" y="5311800"/>
            <a:ext cx="1008360" cy="414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Sam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Overloading Assign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mpiler provides a default assignment operator which does a memberwise copy to object of  same ty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ssignment operator can be overloaded to ensure that pointers are treated properly (as with copy c’tor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38200" y="3284640"/>
            <a:ext cx="6697800" cy="3660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High Tower Text"/>
              </a:rPr>
              <a:t>// Return by reference</a:t>
            </a:r>
            <a:r>
              <a:rPr b="0" lang="en-GB" sz="2000" spc="-1" strike="noStrike">
                <a:solidFill>
                  <a:srgbClr val="000000"/>
                </a:solidFill>
                <a:latin typeface="High Tower Tex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Sample&amp; Sample::operator= (const Sample&amp; rhs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000" spc="-1" strike="noStrike">
                <a:solidFill>
                  <a:srgbClr val="333399"/>
                </a:solidFill>
                <a:latin typeface="High Tower Text"/>
              </a:rPr>
              <a:t>// if lhs &amp; rhs are equal (same address) don’t do anyth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if (this == &amp;rhs) return *thi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the_size = rhs.the_size;   </a:t>
            </a:r>
            <a:r>
              <a:rPr b="0" lang="en-US" sz="2000" spc="-1" strike="noStrike">
                <a:solidFill>
                  <a:srgbClr val="333399"/>
                </a:solidFill>
                <a:latin typeface="High Tower Text"/>
              </a:rPr>
              <a:t>// get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int iSample = 0;         </a:t>
            </a:r>
            <a:r>
              <a:rPr b="0" lang="en-US" sz="2000" spc="-1" strike="noStrike">
                <a:solidFill>
                  <a:srgbClr val="333399"/>
                </a:solidFill>
                <a:latin typeface="High Tower Text"/>
              </a:rPr>
              <a:t>// get sample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while (++iSample &lt;= the_size) {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*(the_sample + (iSample-1)) =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*(rhs.the_sample + (iSample-1)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GB" sz="2000" spc="-1" strike="noStrike">
                <a:solidFill>
                  <a:srgbClr val="000000"/>
                </a:solidFill>
                <a:latin typeface="High Tower Text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return *thi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643280" y="4292640"/>
            <a:ext cx="4249800" cy="2837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int main(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Sample = height(“heightsample”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Sample aCopy = heigh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GB" sz="2000" spc="-1" strike="noStrike">
                <a:solidFill>
                  <a:srgbClr val="333399"/>
                </a:solidFill>
                <a:latin typeface="High Tower Text"/>
              </a:rPr>
              <a:t>//Sample aCopy.operator=(heigh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aCopy = aCopy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539640" y="260280"/>
            <a:ext cx="8209080" cy="7226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class Sample {  </a:t>
            </a:r>
            <a:r>
              <a:rPr b="0" lang="en-US" sz="2000" spc="-1" strike="noStrike">
                <a:solidFill>
                  <a:srgbClr val="333399"/>
                </a:solidFill>
                <a:latin typeface="High Tower Text"/>
              </a:rPr>
              <a:t>// The sample class decla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public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Sample();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 </a:t>
            </a:r>
            <a:r>
              <a:rPr b="0" lang="en-US" sz="2000" spc="-1" strike="noStrike">
                <a:solidFill>
                  <a:srgbClr val="333399"/>
                </a:solidFill>
                <a:latin typeface="High Tower Text"/>
              </a:rPr>
              <a:t>// construc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Sample(char* filenam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Sample(double* sample, int siz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Sample(const Sample&amp;);                               </a:t>
            </a:r>
            <a:r>
              <a:rPr b="0" lang="en-US" sz="2000" spc="-1" strike="noStrike">
                <a:solidFill>
                  <a:srgbClr val="333399"/>
                </a:solidFill>
                <a:latin typeface="High Tower Text"/>
              </a:rPr>
              <a:t>// copy constructor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~Sample();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 </a:t>
            </a:r>
            <a:r>
              <a:rPr b="0" lang="en-US" sz="2000" spc="-1" strike="noStrike">
                <a:solidFill>
                  <a:srgbClr val="333399"/>
                </a:solidFill>
                <a:latin typeface="High Tower Text"/>
              </a:rPr>
              <a:t>// destru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Sample operator+ (const Sample&amp; rhs);       </a:t>
            </a:r>
            <a:r>
              <a:rPr b="0" lang="en-US" sz="2000" spc="-1" strike="noStrike">
                <a:solidFill>
                  <a:srgbClr val="333399"/>
                </a:solidFill>
                <a:latin typeface="High Tower Text"/>
              </a:rPr>
              <a:t>// overloadaed opera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Sample&amp; operator= (const Sample&amp; rhs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int getSize() const {return the_size;}            </a:t>
            </a:r>
            <a:r>
              <a:rPr b="0" lang="en-US" sz="2000" spc="-1" strike="noStrike">
                <a:solidFill>
                  <a:srgbClr val="333399"/>
                </a:solidFill>
                <a:latin typeface="High Tower Text"/>
              </a:rPr>
              <a:t>// public member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double* getSample() const {return the_sample;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void showSample() cons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double mean() cons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double stdev() cons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double* order(int rank = 1) cons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void selfOrder(int rank = 1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double correlation(const Sample&amp; b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privat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int the_size;                                                     </a:t>
            </a:r>
            <a:r>
              <a:rPr b="0" lang="en-US" sz="2000" spc="-1" strike="noStrike">
                <a:solidFill>
                  <a:srgbClr val="333399"/>
                </a:solidFill>
                <a:latin typeface="High Tower Text"/>
              </a:rPr>
              <a:t>// private member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double* the_sample;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int setSize();                                                   </a:t>
            </a:r>
            <a:r>
              <a:rPr b="0" lang="en-US" sz="2000" spc="-1" strike="noStrike">
                <a:solidFill>
                  <a:srgbClr val="333399"/>
                </a:solidFill>
                <a:latin typeface="High Tower Text"/>
              </a:rPr>
              <a:t>// private member f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double* setSample(int siz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}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mory Lea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418608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memory used by object is not freed when pointer goes out of scope, we loose access to the object and the memory cannot be reused until program termina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mory lea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getArraySum() is called frequently as part of a larger program then this memory leak becomes an important efficiency iss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003640" y="1474920"/>
            <a:ext cx="3888000" cy="5887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int main(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int i = 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while (i &lt; 500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High Tower Text"/>
              </a:rPr>
              <a:t>      </a:t>
            </a:r>
            <a:r>
              <a:rPr b="0" lang="en-GB" sz="2000" spc="-1" strike="noStrike">
                <a:solidFill>
                  <a:srgbClr val="333399"/>
                </a:solidFill>
                <a:latin typeface="High Tower Text"/>
              </a:rPr>
              <a:t>// 500 000 memory adre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High Tower Text"/>
              </a:rPr>
              <a:t>      </a:t>
            </a:r>
            <a:r>
              <a:rPr b="0" lang="en-GB" sz="2000" spc="-1" strike="noStrike">
                <a:solidFill>
                  <a:srgbClr val="333399"/>
                </a:solidFill>
                <a:latin typeface="High Tower Text"/>
              </a:rPr>
              <a:t>// created on he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float* result = getArraySum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i++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High Tower Text"/>
              </a:rPr>
              <a:t>      </a:t>
            </a:r>
            <a:r>
              <a:rPr b="0" lang="en-GB" sz="2000" spc="-1" strike="noStrike">
                <a:solidFill>
                  <a:srgbClr val="333399"/>
                </a:solidFill>
                <a:latin typeface="High Tower Text"/>
              </a:rPr>
              <a:t>// no freeing of mem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return 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float* getArraySum(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float* anArray = new float[100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return anArray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ore Memory Leak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40208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 leaks can be introduced by reassigning a ptr before the original object has been dele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ndeleted object on the heap can now longer be accessed as the pointer containing the object’s address in memory has been reassigned =&gt; the memory the object is taking up cannot be freed until the program is terminat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932360" y="1557360"/>
            <a:ext cx="3887640" cy="33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int main(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float* anArray = new float[100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High Tower Text"/>
              </a:rPr>
              <a:t>  </a:t>
            </a:r>
            <a:r>
              <a:rPr b="0" lang="en-GB" sz="2000" spc="-1" strike="noStrike">
                <a:solidFill>
                  <a:srgbClr val="333399"/>
                </a:solidFill>
                <a:latin typeface="High Tower Text"/>
              </a:rPr>
              <a:t>// must delete memor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High Tower Text"/>
              </a:rPr>
              <a:t>  </a:t>
            </a:r>
            <a:r>
              <a:rPr b="0" lang="en-GB" sz="2000" spc="-1" strike="noStrike">
                <a:solidFill>
                  <a:srgbClr val="333399"/>
                </a:solidFill>
                <a:latin typeface="High Tower Text"/>
              </a:rPr>
              <a:t>// associated to original arr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High Tower Text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High Tower Text"/>
              </a:rPr>
              <a:t>delete anArray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anArray = new float[200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delete anArray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return 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849920" y="4797360"/>
            <a:ext cx="418608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Memory leaks are easily introduced by misuse of pointers. But the damage from pointer mistreatment does not end her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ay Point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8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uninitialised pointer refers to a random memory address. This is called 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ra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l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ngling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in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042920" y="2349360"/>
            <a:ext cx="3384720" cy="2837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int main(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int carl = 27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int* lecturer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GB" sz="2000" spc="-1" strike="noStrike">
                <a:solidFill>
                  <a:srgbClr val="333399"/>
                </a:solidFill>
                <a:latin typeface="High Tower Text"/>
              </a:rPr>
              <a:t>//  ptr used before assig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(*lecturer++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lecturer = &amp;carl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return 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788000" y="2349360"/>
            <a:ext cx="3384360" cy="2562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int main(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int carl = 27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int* lecturer = </a:t>
            </a:r>
            <a:r>
              <a:rPr b="0" lang="en-US" sz="1600" spc="-1" strike="noStrike">
                <a:solidFill>
                  <a:srgbClr val="000000"/>
                </a:solidFill>
                <a:latin typeface="High Tower Text"/>
              </a:rPr>
              <a:t>NULL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GB" sz="2000" spc="-1" strike="noStrike">
                <a:solidFill>
                  <a:srgbClr val="333399"/>
                </a:solidFill>
                <a:latin typeface="High Tower Text"/>
              </a:rPr>
              <a:t>// compiler catches err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(*lecturer++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lecturer = &amp;carl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return 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056200"/>
            <a:ext cx="8229600" cy="17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tray pointer can be used to access and overwrite the value stored in a random memory addr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ointer can be made NULL (or 0) if a pointer has to be declared without being initialis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ay Pointers to the Free Sto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6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eaning of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let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often misunderstoo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ointer to is not deleted, instead the memory on the free store that the pointer referred to has is freed. The pointer still exists, and can be misus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556000" y="3394080"/>
            <a:ext cx="4321080" cy="3384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int main(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int andy = 27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int* lecturer = new int(andy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delete lecture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*lecturer = 28; </a:t>
            </a: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High Tower Text"/>
              </a:rPr>
              <a:t>// e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return 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ay Pointers to the Free Sto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1600200"/>
            <a:ext cx="8229600" cy="49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 wild pointer is used after the memory has been freed there are two possible side-eff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can access an address in memory used by other processes on the comput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can overwrite the value in that address there by interrupting the process using that area of memo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 time an object is deleted on the free store, ensure tha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ointer to that object will go out of scope after the delete, 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ign the pointer to NU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riting a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ampl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a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71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 class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ample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an be constructed that has all the functionality of the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tats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rogram.  It can also be extended to incorporate new routine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ata members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array to store the input s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ze of the array storing the s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lass methods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te the mean of the s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te the standard deviation of the s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der the sample by lowest to highest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onstructors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clare an array to store the s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clare an integer to hold the size of the s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quest the sample from the us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quest the size of the sample from the us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Basic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ampl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a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238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art with the basic interface to Sample clas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059280" y="1519200"/>
            <a:ext cx="5689440" cy="5461920"/>
            <a:chOff x="3059280" y="1519200"/>
            <a:chExt cx="5689440" cy="5461920"/>
          </a:xfrm>
        </p:grpSpPr>
        <p:sp>
          <p:nvSpPr>
            <p:cNvPr id="73" name=""/>
            <p:cNvSpPr/>
            <p:nvPr/>
          </p:nvSpPr>
          <p:spPr>
            <a:xfrm>
              <a:off x="3059280" y="1538280"/>
              <a:ext cx="5545080" cy="54428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99"/>
                  </a:solidFill>
                  <a:latin typeface="High Tower Text"/>
                </a:rPr>
                <a:t>// sample class decla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High Tower Text"/>
                </a:rPr>
                <a:t>class Sample {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High Tower Text"/>
                </a:rPr>
                <a:t>public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High Tower Text"/>
                </a:rPr>
                <a:t>   </a:t>
              </a:r>
              <a:r>
                <a:rPr b="0" lang="en-US" sz="2000" spc="-1" strike="noStrike">
                  <a:solidFill>
                    <a:srgbClr val="000000"/>
                  </a:solidFill>
                  <a:latin typeface="High Tower Text"/>
                </a:rPr>
                <a:t>Sample();     </a:t>
              </a:r>
              <a:r>
                <a:rPr b="0" lang="en-US" sz="2000" spc="-1" strike="noStrike">
                  <a:solidFill>
                    <a:srgbClr val="333399"/>
                  </a:solidFill>
                  <a:latin typeface="High Tower Text"/>
                </a:rPr>
                <a:t>// empty constructo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High Tower Text"/>
                </a:rPr>
                <a:t>   </a:t>
              </a:r>
              <a:r>
                <a:rPr b="0" lang="en-US" sz="2000" spc="-1" strike="noStrike">
                  <a:solidFill>
                    <a:srgbClr val="000000"/>
                  </a:solidFill>
                  <a:latin typeface="High Tower Text"/>
                </a:rPr>
                <a:t>~Sample();   </a:t>
              </a:r>
              <a:r>
                <a:rPr b="0" lang="en-US" sz="2000" spc="-1" strike="noStrike">
                  <a:solidFill>
                    <a:srgbClr val="333399"/>
                  </a:solidFill>
                  <a:latin typeface="High Tower Text"/>
                </a:rPr>
                <a:t>// destructo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333399"/>
                  </a:solidFill>
                  <a:latin typeface="High Tower Text"/>
                </a:rPr>
                <a:t>   </a:t>
              </a:r>
              <a:r>
                <a:rPr b="0" lang="en-GB" sz="2000" spc="-1" strike="noStrike">
                  <a:solidFill>
                    <a:srgbClr val="333399"/>
                  </a:solidFill>
                  <a:latin typeface="High Tower Text"/>
                </a:rPr>
                <a:t>// accesor methods (const and some inline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High Tower Text"/>
                </a:rPr>
                <a:t>   </a:t>
              </a:r>
              <a:r>
                <a:rPr b="0" lang="en-US" sz="2000" spc="-1" strike="noStrike">
                  <a:solidFill>
                    <a:srgbClr val="000000"/>
                  </a:solidFill>
                  <a:latin typeface="High Tower Text"/>
                </a:rPr>
                <a:t>int getSize() const {return the_size;}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High Tower Text"/>
                </a:rPr>
                <a:t>   </a:t>
              </a:r>
              <a:r>
                <a:rPr b="0" lang="en-US" sz="2000" spc="-1" strike="noStrike">
                  <a:solidFill>
                    <a:srgbClr val="000000"/>
                  </a:solidFill>
                  <a:latin typeface="High Tower Text"/>
                </a:rPr>
                <a:t>double* getSample() const {return the_sample;}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High Tower Text"/>
                </a:rPr>
                <a:t>   </a:t>
              </a:r>
              <a:r>
                <a:rPr b="0" lang="en-US" sz="2000" spc="-1" strike="noStrike">
                  <a:solidFill>
                    <a:srgbClr val="000000"/>
                  </a:solidFill>
                  <a:latin typeface="High Tower Text"/>
                </a:rPr>
                <a:t>void showSample() const;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High Tower Text"/>
                </a:rPr>
                <a:t>   </a:t>
              </a:r>
              <a:r>
                <a:rPr b="0" lang="en-US" sz="2000" spc="-1" strike="noStrike">
                  <a:solidFill>
                    <a:srgbClr val="000000"/>
                  </a:solidFill>
                  <a:latin typeface="High Tower Text"/>
                </a:rPr>
                <a:t>double mean() const;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High Tower Text"/>
                </a:rPr>
                <a:t>   </a:t>
              </a:r>
              <a:r>
                <a:rPr b="0" lang="en-US" sz="2000" spc="-1" strike="noStrike">
                  <a:solidFill>
                    <a:srgbClr val="000000"/>
                  </a:solidFill>
                  <a:latin typeface="High Tower Text"/>
                </a:rPr>
                <a:t>double stdev() const;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High Tower Text"/>
                </a:rPr>
                <a:t>private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High Tower Text"/>
                </a:rPr>
                <a:t>   </a:t>
              </a:r>
              <a:r>
                <a:rPr b="0" lang="en-US" sz="2000" spc="-1" strike="noStrike">
                  <a:solidFill>
                    <a:srgbClr val="000000"/>
                  </a:solidFill>
                  <a:latin typeface="High Tower Text"/>
                </a:rPr>
                <a:t>int the_size;                              </a:t>
              </a:r>
              <a:r>
                <a:rPr b="0" lang="en-US" sz="2000" spc="-1" strike="noStrike">
                  <a:solidFill>
                    <a:srgbClr val="333399"/>
                  </a:solidFill>
                  <a:latin typeface="High Tower Text"/>
                </a:rPr>
                <a:t>// private dat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High Tower Text"/>
                </a:rPr>
                <a:t>   </a:t>
              </a:r>
              <a:r>
                <a:rPr b="0" lang="en-US" sz="2000" spc="-1" strike="noStrike">
                  <a:solidFill>
                    <a:srgbClr val="000000"/>
                  </a:solidFill>
                  <a:latin typeface="High Tower Text"/>
                </a:rPr>
                <a:t>double* the_sample;                </a:t>
              </a:r>
              <a:r>
                <a:rPr b="0" lang="en-US" sz="2000" spc="-1" strike="noStrike">
                  <a:solidFill>
                    <a:srgbClr val="333399"/>
                  </a:solidFill>
                  <a:latin typeface="High Tower Text"/>
                </a:rPr>
                <a:t>// membe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High Tower Text"/>
                </a:rPr>
                <a:t>   </a:t>
              </a:r>
              <a:r>
                <a:rPr b="0" lang="en-US" sz="2000" spc="-1" strike="noStrike">
                  <a:solidFill>
                    <a:srgbClr val="000000"/>
                  </a:solidFill>
                  <a:latin typeface="High Tower Text"/>
                </a:rPr>
                <a:t>int setSize();                            </a:t>
              </a:r>
              <a:r>
                <a:rPr b="0" lang="en-US" sz="2000" spc="-1" strike="noStrike">
                  <a:solidFill>
                    <a:srgbClr val="333399"/>
                  </a:solidFill>
                  <a:latin typeface="High Tower Text"/>
                </a:rPr>
                <a:t>// setters call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High Tower Text"/>
                </a:rPr>
                <a:t>   </a:t>
              </a:r>
              <a:r>
                <a:rPr b="0" lang="en-US" sz="2000" spc="-1" strike="noStrike">
                  <a:solidFill>
                    <a:srgbClr val="000000"/>
                  </a:solidFill>
                  <a:latin typeface="High Tower Text"/>
                </a:rPr>
                <a:t>double* setSample(int size);  </a:t>
              </a:r>
              <a:r>
                <a:rPr b="0" lang="en-US" sz="2000" spc="-1" strike="noStrike">
                  <a:solidFill>
                    <a:srgbClr val="333399"/>
                  </a:solidFill>
                  <a:latin typeface="High Tower Text"/>
                </a:rPr>
                <a:t>// by constructo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High Tower Text"/>
                </a:rPr>
                <a:t>};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164360" y="1519200"/>
              <a:ext cx="1584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[Sample.h]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11T16:04:44Z</dcterms:created>
  <dc:creator>sarah</dc:creator>
  <dc:description/>
  <dc:language>en-US</dc:language>
  <cp:lastModifiedBy>Administrator</cp:lastModifiedBy>
  <dcterms:modified xsi:type="dcterms:W3CDTF">2007-08-24T12:45:33Z</dcterms:modified>
  <cp:revision>39</cp:revision>
  <dc:subject/>
  <dc:title>Slide 1</dc:title>
</cp:coreProperties>
</file>