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E2B6-6D1C-47A2-A235-4E1960E4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E511-D870-49ED-9545-99F87A39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5623-EEBC-4D11-AC44-60B22045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FB8C-906B-44A8-AF25-309FC5B6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A27-AF49-4436-A279-F44DB9AF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51E1-15CC-4DBF-B2F3-9E0FFADB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87EE-284F-4A57-AF80-E48CC0BA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DBE9-ABA7-430A-B5F3-C5FE713F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E0A3-619C-41EB-8CBA-F27C2E3B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63EC-367C-4A99-A1A0-DCDBA6B2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2451-79FC-430D-819A-FE8F3DC0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0437-58BA-45D6-9355-185295AA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4319-F916-4E90-AA0C-D999CD4335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william@hep.ph.liv.ac.uk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Introduction to Programming using C+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23920"/>
            <a:ext cx="64008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cture One: Getting Star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258920" y="4581360"/>
            <a:ext cx="662616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arl Gwilli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High Tower Text"/>
                <a:hlinkClick r:id="rId1"/>
              </a:rPr>
              <a:t>gwilliam@hep.ph.liv.ac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http://hep.ph.liv.ac.uk/~gwilliam/cpp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36480" y="1600200"/>
            <a:ext cx="6491160" cy="452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nt a; float b; float 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float d = 10.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float resu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get two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out &lt;&lt; "Enter two numbers" &lt;&lt;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in &gt;&gt; a; cin &gt;&gt;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 = 2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result = b * a + 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result = (result + 2)/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display the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out &lt;&lt; "Result of calculation: " &lt;&lt; result &lt;&lt;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ements are used to control the sequence of execution, evaluate an expression (or even do noth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statements are terminated with a semi colo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124000" y="2741760"/>
            <a:ext cx="4896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out &lt;&lt; "Enter two numbers" &lt;&lt;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result = b * a + 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419640" y="4890960"/>
            <a:ext cx="244764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result=        b*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+c        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is the same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result = b * a + 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95280" y="38307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statement can trail over several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de is easier to read with a sensible use of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te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468360" y="1316160"/>
            <a:ext cx="8207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ents are useful for you and other develop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3060720" y="1773360"/>
            <a:ext cx="3024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get two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display the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68360" y="2708280"/>
            <a:ext cx="828036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mment begins with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ends with a line bre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ents indicate the purpose of the surround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can be placed anywhere in the program, ex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in the body of a stat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2268360" y="4305240"/>
            <a:ext cx="4896000" cy="265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this is a valid com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result = b * a; 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this is also va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result = 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this is NOT valid (result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+ 2)/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* You may also use this ‘C’ style comment to span multiple lines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4851000"/>
            <a:ext cx="8229600" cy="18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iable ‘a’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s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ype integ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ociated with some object of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ype inte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iable ‘d’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s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ype floa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ociated with some object of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ype floa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a value of 1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3780000" y="3244680"/>
            <a:ext cx="4608360" cy="15526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95280" y="1442880"/>
            <a:ext cx="842472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variable is a name associated with a location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r memory used to store a valu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use a variable in C++, we must fir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pecifying which data type we want it to 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900000" y="3645000"/>
            <a:ext cx="208764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float d = 10.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ariable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508608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mpiler needs to know how much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or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aside for the object associated with the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type requires a specific amount of space in mem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268280"/>
            <a:ext cx="828036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oes it mean to say a variable has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++ built-in typ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050920" y="2284560"/>
            <a:ext cx="5545440" cy="3050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nt a;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float b;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double c;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bool d;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boolean (o or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har e;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character (ASCII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Built-in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0526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is all? How does C++ deal with complex numb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++ has the capacity to creat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r define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es. This is a fundamental concept of the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42960" y="1604880"/>
          <a:ext cx="5238720" cy="2967120"/>
        </p:xfrm>
        <a:graphic>
          <a:graphicData uri="http://schemas.openxmlformats.org/drawingml/2006/table">
            <a:tbl>
              <a:tblPr/>
              <a:tblGrid>
                <a:gridCol w="1187280"/>
                <a:gridCol w="1551240"/>
                <a:gridCol w="2500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/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 ch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o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ee belo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 32,7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 2.1*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3.4*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1.8*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89" name="TextBox 7"/>
          <p:cNvSpPr/>
          <p:nvPr/>
        </p:nvSpPr>
        <p:spPr>
          <a:xfrm>
            <a:off x="6357960" y="185724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byte = 8 bits  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ssible comb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6369480" y="2714760"/>
            <a:ext cx="18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determ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he compi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6370560" y="3571920"/>
            <a:ext cx="19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e can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d by u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igned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it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468360" y="1341360"/>
            <a:ext cx="83516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declaring a variable, it’s value is by default undeterm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give the variable a value at the same moment it is decl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two ways to do this in C++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ore used c-like metho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nstructor metho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good practice t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ise a variable to a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413080" y="3605040"/>
            <a:ext cx="439092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type identifier = initial_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nt a = 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411280" y="5013360"/>
            <a:ext cx="439272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type identifier (initial_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nt a(0); 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342720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mistake the above statements for algebr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e of the expression to the right of the assignment operator (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val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is assigned to the variable on the left (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val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.  Remember assignment is right-to-le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619280" y="2276640"/>
            <a:ext cx="583236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 = 2.1;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assignment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result = b * a + 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124000" y="5516640"/>
            <a:ext cx="52578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 = 2.1; 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c assigned the value 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2.1 = c; 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incorre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468360" y="1341360"/>
            <a:ext cx="8351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variable can be assigned (or reassigned) to a particular  value with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signment operator (=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rithmetic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4724280"/>
            <a:ext cx="83628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careful applying the division operator when assigning a variable with a different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50920" y="1413000"/>
            <a:ext cx="8496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v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mary mathematical opera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332000" y="5472000"/>
            <a:ext cx="42480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nt a = 8; int b = 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float c = a / b; 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c i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 = (float)a / (float)b; 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c is 1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32000" y="1989000"/>
          <a:ext cx="2952720" cy="2590920"/>
        </p:xfrm>
        <a:graphic>
          <a:graphicData uri="http://schemas.openxmlformats.org/drawingml/2006/table">
            <a:tbl>
              <a:tblPr/>
              <a:tblGrid>
                <a:gridCol w="2165400"/>
                <a:gridCol w="787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r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AutoShape 35"/>
          <p:cNvSpPr/>
          <p:nvPr/>
        </p:nvSpPr>
        <p:spPr>
          <a:xfrm>
            <a:off x="4788000" y="2060640"/>
            <a:ext cx="3600360" cy="1728720"/>
          </a:xfrm>
          <a:prstGeom prst="wedgeRectCallout">
            <a:avLst>
              <a:gd name="adj1" fmla="val -59962"/>
              <a:gd name="adj2" fmla="val 8489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6"/>
          <p:cNvSpPr/>
          <p:nvPr/>
        </p:nvSpPr>
        <p:spPr>
          <a:xfrm>
            <a:off x="4932360" y="2133720"/>
            <a:ext cx="331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dulus is the remainder from integer division (e.g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%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equal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7"/>
          <p:cNvSpPr/>
          <p:nvPr/>
        </p:nvSpPr>
        <p:spPr>
          <a:xfrm>
            <a:off x="6156360" y="5516640"/>
            <a:ext cx="2663640" cy="936720"/>
          </a:xfrm>
          <a:prstGeom prst="wedgeRectCallout">
            <a:avLst>
              <a:gd name="adj1" fmla="val -67578"/>
              <a:gd name="adj2" fmla="val 63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8"/>
          <p:cNvSpPr/>
          <p:nvPr/>
        </p:nvSpPr>
        <p:spPr>
          <a:xfrm>
            <a:off x="6299280" y="560700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sting an integer to a float (‘c’-sty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ple Operators and Prece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573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assume that an expression is evaluated from left to right by the compiler. In C++, an operator has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cede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203640" y="1373040"/>
            <a:ext cx="309708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result = b * a + 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result = (result + 2)/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95280" y="2421000"/>
            <a:ext cx="8424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no restrictions on the amount of operators in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900000" y="3284640"/>
            <a:ext cx="6120000" cy="265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float a = 6 * 4 + 4 * 2; 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answer is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float b = 6 * (4+4) * 2; 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answer is 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expression is incompreh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float c = b+c * 2/d + 3 + b/c + d - b *c/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still uncle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float d = b + ((c*2)/(d+3)+(b/(c+d))-(b*c/d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0"/>
          <p:cNvGrpSpPr/>
          <p:nvPr/>
        </p:nvGrpSpPr>
        <p:grpSpPr>
          <a:xfrm>
            <a:off x="7524720" y="3290760"/>
            <a:ext cx="1046520" cy="2253600"/>
            <a:chOff x="7524720" y="3290760"/>
            <a:chExt cx="1046520" cy="2253600"/>
          </a:xfrm>
        </p:grpSpPr>
        <p:sp>
          <p:nvSpPr>
            <p:cNvPr id="116" name="Text Box 7"/>
            <p:cNvSpPr/>
            <p:nvPr/>
          </p:nvSpPr>
          <p:spPr>
            <a:xfrm>
              <a:off x="7524720" y="3290760"/>
              <a:ext cx="863640" cy="225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 flipV="1">
              <a:off x="8101080" y="3500280"/>
              <a:ext cx="0" cy="194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9"/>
            <p:cNvSpPr/>
            <p:nvPr/>
          </p:nvSpPr>
          <p:spPr>
            <a:xfrm rot="16200000">
              <a:off x="7400160" y="4273560"/>
              <a:ext cx="194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RESED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urse Prerequi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you should already know about 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Arial"/>
              </a:rPr>
              <a:t>NOTHING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ave assum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have never encountered C++ befo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have limited to no programming experience in any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put and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3573360"/>
            <a:ext cx="54720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now, you can use these statements without fully appreciating th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95280" y="1413000"/>
            <a:ext cx="828036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s information from the keyboard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u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to the terminal (they’re defined in the hea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ostea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828720" y="2597040"/>
            <a:ext cx="489564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in &gt;&gt;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out &lt;&lt; "Enter two numbers" &lt;&lt;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828720" y="4670280"/>
            <a:ext cx="4895640" cy="228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float a = 13.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out &lt;&lt; "This is a string" &lt;&lt;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out &lt;&lt; "Value of a: " &lt;&lt; a &lt;&lt;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out &lt;&lt; "a: " &lt;&lt; (int) a &lt;&lt;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out &lt;&lt; "a =\t" &lt;&lt; a &lt;&lt; "\n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012000" y="4667400"/>
            <a:ext cx="2447640" cy="1923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a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lue of a: 13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: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=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3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14880" y="2276640"/>
          <a:ext cx="2444760" cy="1981080"/>
        </p:xfrm>
        <a:graphic>
          <a:graphicData uri="http://schemas.openxmlformats.org/drawingml/2006/table">
            <a:tbl>
              <a:tblPr/>
              <a:tblGrid>
                <a:gridCol w="1914840"/>
                <a:gridCol w="529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izontal t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sp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sl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\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quality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47280" y="1267920"/>
            <a:ext cx="6409080" cy="525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float a, b, c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out &lt;&lt; "Enter two numbers“ &lt;&lt;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in &gt;&gt; a; cin &gt;&gt;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 = a -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f (a == b) cout &lt;&lt; "Two numbers are equal\n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f (!c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out &lt;&lt; "Two numbers are equal\n"; 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f (a &gt; b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out &lt;&lt; "The first number is greater\n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out &lt;&lt; "The second number is greater\n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ditional Statemen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y the condition in the expression to determin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tement will be exec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apability of altering the program flow depending on a outcome of an expression is a powerful tool in program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pression is a conditional statement is always evaluated a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alse (0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ue (non-0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916360" y="1270080"/>
            <a:ext cx="3528720" cy="752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f (expression) state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ditional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16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tatement will be included in the program flow if the condition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reater than symbo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e equivalence symbo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==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relational oper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3060720" y="3102120"/>
            <a:ext cx="3024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f (a &gt; b) state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f (a == b) state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411280" y="5229360"/>
            <a:ext cx="439272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nt x = 4; int y =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f (x = 4) cout &lt;&lt; “x equals 4\n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f (y = 4) cout &lt;&lt; “y equals 4\n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7093080" y="5229360"/>
            <a:ext cx="165564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equals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 equals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539640" y="5229360"/>
            <a:ext cx="1440000" cy="1224000"/>
          </a:xfrm>
          <a:prstGeom prst="wedgeRectCallout">
            <a:avLst>
              <a:gd name="adj1" fmla="val 74476"/>
              <a:gd name="adj2" fmla="val 13166"/>
            </a:avLst>
          </a:prstGeom>
          <a:solidFill>
            <a:srgbClr val="ffffff">
              <a:alpha val="9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11280" y="5362560"/>
            <a:ext cx="129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ition is alway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395280" y="4149720"/>
            <a:ext cx="82296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ember the difference between the assignment (=) and equivalence (==) operato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lational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218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tional operators are used to evaluate if an expression is true or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24000" y="5456160"/>
            <a:ext cx="8496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egation operato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rts the logic of th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2124000" y="6094440"/>
            <a:ext cx="4608720" cy="752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f (!(x &gt; y)) cout &lt;&lt; “x less than y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66920" y="2349360"/>
          <a:ext cx="4826160" cy="2837160"/>
        </p:xfrm>
        <a:graphic>
          <a:graphicData uri="http://schemas.openxmlformats.org/drawingml/2006/table">
            <a:tbl>
              <a:tblPr/>
              <a:tblGrid>
                <a:gridCol w="1157400"/>
                <a:gridCol w="366876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&lt;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&lt;=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or equal t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&gt;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ater th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&gt;=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ater than or equal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=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!=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eq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oolean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al statements us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oolea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gic to determine whether the expression is true or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n-zer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e is true,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er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e is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4211640" y="1450800"/>
            <a:ext cx="936720" cy="386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f (!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826920" y="4032360"/>
            <a:ext cx="468180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nt x = 2; int y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f (x) cout &lt;&lt; “x equals 2” &lt;&lt;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f (!y) cout &lt;&lt; “y equals 0” &lt;&lt;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5940360" y="4032360"/>
            <a:ext cx="223200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 equal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 equal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468360" y="5908680"/>
            <a:ext cx="817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Boolean logic is used frequently in C++ so be prepared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pound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5548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ound statements (o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lock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act as a single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enable multiple statements to be attached to one con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cks are started and ended with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races {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not placed at the end of a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564000" y="4454640"/>
            <a:ext cx="2160360" cy="265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statement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stateme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f-else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6437160"/>
            <a:ext cx="8229600" cy="4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, else block is only executed if none of above is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5940360" y="1268280"/>
            <a:ext cx="244800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f (expression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block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block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1474920" y="3716280"/>
            <a:ext cx="2449440" cy="265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f (a &gt; b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} else if (a &lt; b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5365800" y="3724200"/>
            <a:ext cx="2519280" cy="265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f (a &gt; b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f (a &gt;= c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395280" y="1373040"/>
            <a:ext cx="5545080" cy="23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rue condition in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ressio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l result i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lock 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ing execu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wis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lock b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l be exec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ement can be used fo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ple conditions and nested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y the end of the 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shou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a working knowledge of all of the common C++ synta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ow how to avoid common coding pitfa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 able to use and create your own functions and clas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ognise the advantages of using pointers and referen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 able to understand the fundamental ideas of object oriented (OO) desig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awa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not the comprehensive course for C++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advanced topics will not be covered in this 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 specific C++ courses are worth attending if you have 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are learning a sophisticated language! It will take some time and a fair amount of hands-on experience to become familiar with C+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urse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cture 1: 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ments, variables, types, operators, I/O, conditional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cture 2: Further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and while loops, increment and logical operators, sorting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cture 3: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brary and user functions, declarations, arguments, over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cture 4: Pointers and 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s, pointers, passing by reference, pointers and arrays, con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cture 5: Introducing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larations, member variables and functions, accessors, over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urse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cture 6: Classes i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ructors and destructors, constant functions, memor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cture 7: Designing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ssing by const reference, copy constructors, overloading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cture 8: Towards OO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heritance, virtual functions, multiple inheritance, abstrac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cture 9: Templates &amp; the S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 &amp; Class Templates, Specialisation, String, Vector,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cture 10: File I/O and Str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ing, writing, formatting, strings as str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y do you need to learn how to write co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I am not a computer scientist!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ftware development skills are usually required in every element of your project - from extracting data to getting your results publish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will be very useful to learn good programming techniques now so you can save a lot of time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 C++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"I already know how to program in FORTRAN/C/ASSEM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so why do I have to bother with C++?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recent times there has been a shift from procedural languages such as FORTRAN to OO-style languages such as C++ and Ja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anguage of choice, for now, is C++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++ is ideally suited for projects where the active developers are not located in the same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r survey says: almost all of the current HEP Ph.D. students write and execute C++ code on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il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++ is no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wer, it is a reasonable solution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ello Worl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4797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C++ program must contain one (and only one)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i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 program is executed "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llo Worl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 is displayed on the terminal scr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268360" y="2144880"/>
            <a:ext cx="4321440" cy="228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#include &lt;iostrea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using namespace st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out &lt;&lt; "Hello World!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539640" y="1413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irst complete C++ program in this cou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piling 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24360" y="1483920"/>
            <a:ext cx="49687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ce the code is written is has to be compi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High Tower Text"/>
              </a:rPr>
              <a:t>     </a:t>
            </a:r>
            <a:r>
              <a:rPr b="0" lang="en-GB" sz="2100" spc="-1" strike="noStrike">
                <a:solidFill>
                  <a:srgbClr val="ff0000"/>
                </a:solidFill>
                <a:latin typeface="High Tower Text"/>
              </a:rPr>
              <a:t>g++ -Wall -o Hello.exe HelloWorld.cp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code compiles successfully a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bjec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le (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lloWorld.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is cr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object file is then linked with other object files and libraries required to create the ex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ecutable can be run at the command prompt, just like any other UNIX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9"/>
          <p:cNvGrpSpPr/>
          <p:nvPr/>
        </p:nvGrpSpPr>
        <p:grpSpPr>
          <a:xfrm>
            <a:off x="539640" y="1413000"/>
            <a:ext cx="2808360" cy="4752720"/>
            <a:chOff x="539640" y="1413000"/>
            <a:chExt cx="2808360" cy="4752720"/>
          </a:xfrm>
        </p:grpSpPr>
        <p:pic>
          <p:nvPicPr>
            <p:cNvPr id="63" name="Picture 6" descr="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2808360" cy="47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Rectangle 8"/>
            <p:cNvSpPr/>
            <p:nvPr/>
          </p:nvSpPr>
          <p:spPr>
            <a:xfrm>
              <a:off x="2411280" y="1989000"/>
              <a:ext cx="936720" cy="100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14:25:57Z</dcterms:created>
  <dc:creator>gwilliam</dc:creator>
  <dc:description/>
  <dc:language>en-US</dc:language>
  <cp:lastModifiedBy>NICE</cp:lastModifiedBy>
  <dcterms:modified xsi:type="dcterms:W3CDTF">2008-10-13T21:18:33Z</dcterms:modified>
  <cp:revision>109</cp:revision>
  <dc:subject/>
  <dc:title>Introduction to Programming using C++</dc:title>
</cp:coreProperties>
</file>