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5EE-B12A-4741-B509-BA66D465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DA7-9C84-4B10-99B7-D43E5FD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252-9FFC-41FF-8F74-29FBB6B6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048-F070-454C-ACFB-9715083C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AEA-F483-40A0-9919-C2D5ED06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C74-CE60-4465-82BD-B428A67A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2EB-6921-4B1D-8AF5-C87EDB60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EC1-976A-4420-AD58-3412F2B4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AFC-FA3E-48EA-8763-1ACE3CA6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75B-80A3-4B70-853E-0DAE5FE3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A4A-7FAF-41E6-852E-5311461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747-5E35-4055-98E6-67395D4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95E-4690-4903-B6E8-0EB91A2A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924280"/>
            <a:ext cx="7417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Eight: Toward OO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time Object Init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83840"/>
            <a:ext cx="3887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How can an object b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initialised if type is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decided when run program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clare object in if stateme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er to heap won’t persist beyond end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clare all shape possibilities outside if stateme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scaleable when more shapes are int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hat is proper solu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211640" y="1413000"/>
            <a:ext cx="4537080" cy="5335560"/>
            <a:chOff x="4211640" y="1413000"/>
            <a:chExt cx="4537080" cy="5335560"/>
          </a:xfrm>
        </p:grpSpPr>
        <p:sp>
          <p:nvSpPr>
            <p:cNvPr id="93" name=""/>
            <p:cNvSpPr/>
            <p:nvPr/>
          </p:nvSpPr>
          <p:spPr>
            <a:xfrm>
              <a:off x="4213080" y="1413000"/>
              <a:ext cx="4535640" cy="2837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out &lt;&lt; "type of parallelogram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1 - rectangle, 2 - rhombus\n"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request; cin &gt;&gt; reques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??* newShape = NULL;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what is typ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f (request == 1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newShape = new Rectangle(1,2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 else if (request == 2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newShape = new Rhombus(2,45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11640" y="4097160"/>
              <a:ext cx="4537080" cy="108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if (request == 1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Rectangle* newShape = new Rectangle(1,2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13080" y="5064120"/>
              <a:ext cx="4535640" cy="1684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ctangle* newShape = NULL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hombus* newShape2 = NULL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f (request == 1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newShape = new Rectangle(1,2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blem can be solved by exploiting the inheritance relation betwee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8920" y="2421000"/>
            <a:ext cx="4033800" cy="3934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type of parallelogram? 1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, 2 - rhombus\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request; cin &gt;&gt; requ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arallelogram* newShape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request ==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newShape = new Rectangle(1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if (request == 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newShape = new Rhombus(2,4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565360"/>
            <a:ext cx="4032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oi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ha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clared with a type of Parallelogram it can refer to eithe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mb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both of these objec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e kind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200560"/>
            <a:ext cx="8229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ing the pointer to an object at runtime is known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-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t if pointer newShape refers to a parallelogram how can it access class methods of rectangle or rhom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rtu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ha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pointer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 i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that is invo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637000"/>
            <a:ext cx="54007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arallelogram* newShape = new Rectangle(1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6040" y="311292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verridden by derived class can be accessed i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is ma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71640" y="4141800"/>
            <a:ext cx="3457440" cy="2562840"/>
            <a:chOff x="971640" y="4141800"/>
            <a:chExt cx="3457440" cy="2562840"/>
          </a:xfrm>
        </p:grpSpPr>
        <p:sp>
          <p:nvSpPr>
            <p:cNvPr id="106" name=""/>
            <p:cNvSpPr/>
            <p:nvPr/>
          </p:nvSpPr>
          <p:spPr>
            <a:xfrm>
              <a:off x="971640" y="4141800"/>
              <a:ext cx="3313080" cy="256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parallelogram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arallelogram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High Tower Text"/>
                </a:rPr>
                <a:t>virtual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double area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High Tower Text"/>
                </a:rPr>
                <a:t>virtual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double perimeter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00360" y="573408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5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32360" y="4141800"/>
            <a:ext cx="3456000" cy="2288520"/>
            <a:chOff x="4932360" y="4141800"/>
            <a:chExt cx="3456000" cy="2288520"/>
          </a:xfrm>
        </p:grpSpPr>
        <p:sp>
          <p:nvSpPr>
            <p:cNvPr id="109" name=""/>
            <p:cNvSpPr/>
            <p:nvPr/>
          </p:nvSpPr>
          <p:spPr>
            <a:xfrm>
              <a:off x="4932360" y="4141800"/>
              <a:ext cx="3313080" cy="228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rectangle class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Rectangle : public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arallelogram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area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59640" y="573408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5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rtu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because calls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s are decided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d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n-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compile-time, so it can check what object is actually pointed 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465300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ware, this makes virtual function calls s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thod is virtual but not overridden by derived class then base class method will be implemented 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functions en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19280" y="3068640"/>
            <a:ext cx="6337440" cy="1739880"/>
            <a:chOff x="1619280" y="3068640"/>
            <a:chExt cx="6337440" cy="1739880"/>
          </a:xfrm>
        </p:grpSpPr>
        <p:sp>
          <p:nvSpPr>
            <p:cNvPr id="115" name=""/>
            <p:cNvSpPr/>
            <p:nvPr/>
          </p:nvSpPr>
          <p:spPr>
            <a:xfrm>
              <a:off x="1619280" y="3068640"/>
              <a:ext cx="6191280" cy="1739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myShape-&gt;area();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rectangle methods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myShape-&gt;perimeter()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are invok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can call base class method by using it’s full sco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myShape-&gt;Parallelogram::area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80000" y="38955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Shapes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ha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an object on the heap so memory has to be released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But rectangle d’tor not called as ptr of type Parallelogram =&gt; could cause a memory l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2562120"/>
            <a:ext cx="54007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arallelogram* newShape = new Rectangle(1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delete newSha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068720"/>
            <a:ext cx="331164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arallelogram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arallel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~Parallelogra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4068720"/>
            <a:ext cx="367200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ctangle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ectangl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 Parallel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Rectangle()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alls base d’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s well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6040" y="321156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 this is fixed by max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’t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ensures the proper sequence of d’tors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6040" y="609300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destructor will still be called even if the pointer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rived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3394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an be constructed that inherits from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4095720"/>
            <a:ext cx="475128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square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Square : public Rectang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 Rhombu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qua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quare(double 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quare(Point ll, double 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Square()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all functionality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from rectangle &amp; rhom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2560" y="2781360"/>
            <a:ext cx="453708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hombus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hombus : public Parallel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2560" y="1484280"/>
            <a:ext cx="453708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ctangle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ectangle : public Parallel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506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ructors for each of the base classes need to be called in tu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ultiple inheritance can be dangerous.  Can you see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9640" y="2349360"/>
            <a:ext cx="8136000" cy="3388320"/>
            <a:chOff x="539640" y="2349360"/>
            <a:chExt cx="8136000" cy="3388320"/>
          </a:xfrm>
        </p:grpSpPr>
        <p:grpSp>
          <p:nvGrpSpPr>
            <p:cNvPr id="134" name=""/>
            <p:cNvGrpSpPr/>
            <p:nvPr/>
          </p:nvGrpSpPr>
          <p:grpSpPr>
            <a:xfrm>
              <a:off x="539640" y="2349360"/>
              <a:ext cx="8136000" cy="3388320"/>
              <a:chOff x="539640" y="2349360"/>
              <a:chExt cx="8136000" cy="3388320"/>
            </a:xfrm>
          </p:grpSpPr>
          <p:sp>
            <p:nvSpPr>
              <p:cNvPr id="135" name=""/>
              <p:cNvSpPr/>
              <p:nvPr/>
            </p:nvSpPr>
            <p:spPr>
              <a:xfrm>
                <a:off x="1332000" y="4546440"/>
                <a:ext cx="6624720" cy="119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High Tower Text"/>
                  </a:rPr>
                  <a:t>// constructor for squa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Square::Square(double size)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High Tower Text"/>
                  </a:rPr>
                  <a:t>Rectangl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(size,size),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High Tower Text"/>
                  </a:rPr>
                  <a:t>Rhomb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(size,90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{…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9640" y="2386080"/>
                <a:ext cx="3961080" cy="228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High Tower Text"/>
                  </a:rPr>
                  <a:t>// constructor for rhomb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Rhombus::Rhombus(double length,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                    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 angle)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Parallelogram(length,length,90.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{…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41840" y="2349360"/>
                <a:ext cx="4033800" cy="2014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// constructor for rectang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Rectangle::Rectangle(double length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                    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 width)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Parallelogram(length,width,90.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{…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4571640" y="3789360"/>
              <a:ext cx="2087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4360" y="3860640"/>
              <a:ext cx="2016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Class Ambig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71480"/>
            <a:ext cx="46911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is that the class meth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inherited via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m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mbiguo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,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qu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bject actually contain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- objects of Paralle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mbiguity can be solved b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rtual inherit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292720" y="1700280"/>
            <a:ext cx="3095640" cy="4897440"/>
            <a:chOff x="5292720" y="1700280"/>
            <a:chExt cx="3095640" cy="4897440"/>
          </a:xfrm>
        </p:grpSpPr>
        <p:grpSp>
          <p:nvGrpSpPr>
            <p:cNvPr id="143" name=""/>
            <p:cNvGrpSpPr/>
            <p:nvPr/>
          </p:nvGrpSpPr>
          <p:grpSpPr>
            <a:xfrm>
              <a:off x="5364000" y="1700280"/>
              <a:ext cx="3024360" cy="4897440"/>
              <a:chOff x="5364000" y="1700280"/>
              <a:chExt cx="3024360" cy="48974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4240" y="2133720"/>
                <a:ext cx="2994120" cy="446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5364000" y="1700280"/>
                <a:ext cx="251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3399"/>
                    </a:solidFill>
                    <a:latin typeface="Arial"/>
                  </a:rPr>
                  <a:t>Dreaded Diamond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292720" y="5950080"/>
              <a:ext cx="5745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339920"/>
            <a:ext cx="4321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rived class now inherit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rtual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Parallelogram base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ensures the most derived class, Square, only inherit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-object of type Parallel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doesn’t affect Rectangle or Rhombu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4869000"/>
            <a:ext cx="83534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 constructor must now be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most derived class (unless using defaul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grams are much easier to read if object relationships are implemented through single public inheritance. Don’t use multiple inheritance unless you really have t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643280" y="1268280"/>
            <a:ext cx="4249800" cy="3865320"/>
            <a:chOff x="4643280" y="1268280"/>
            <a:chExt cx="4249800" cy="3865320"/>
          </a:xfrm>
        </p:grpSpPr>
        <p:grpSp>
          <p:nvGrpSpPr>
            <p:cNvPr id="151" name=""/>
            <p:cNvGrpSpPr/>
            <p:nvPr/>
          </p:nvGrpSpPr>
          <p:grpSpPr>
            <a:xfrm>
              <a:off x="4643280" y="1268280"/>
              <a:ext cx="4175280" cy="3865320"/>
              <a:chOff x="4643280" y="1268280"/>
              <a:chExt cx="4175280" cy="3865320"/>
            </a:xfrm>
          </p:grpSpPr>
          <p:sp>
            <p:nvSpPr>
              <p:cNvPr id="152" name=""/>
              <p:cNvSpPr/>
              <p:nvPr/>
            </p:nvSpPr>
            <p:spPr>
              <a:xfrm>
                <a:off x="4643280" y="1268280"/>
                <a:ext cx="3456000" cy="2014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High Tower Text"/>
                  </a:rPr>
                  <a:t>// rectangle class declar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class Rectangle 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High Tower Text"/>
                  </a:rPr>
                  <a:t>virtu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public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Parallelogram {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}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75280" y="2205000"/>
                <a:ext cx="3456000" cy="2014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High Tower Text"/>
                  </a:rPr>
                  <a:t>// rhombus class declar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class Rhombus 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High Tower Text"/>
                  </a:rPr>
                  <a:t>virtu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public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Parallelogram {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}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06920" y="3119400"/>
                <a:ext cx="3311640" cy="2014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High Tower Text"/>
                  </a:rPr>
                  <a:t>// empty square construct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Square::Square()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Rectangle(1,1)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Rhombus(1,90)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Parallelogram(1,1,90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{…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7236000" y="447192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6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375000" y="1700280"/>
            <a:ext cx="5084640" cy="2233440"/>
            <a:chOff x="3375000" y="1700280"/>
            <a:chExt cx="5084640" cy="22334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3375000" y="1700280"/>
              <a:ext cx="50846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227640" y="3645000"/>
              <a:ext cx="22320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sessing Inheritance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heritance is not required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qu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a kind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t how does square inherit functionality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tang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homb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i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were really unique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mb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can be moved up inheritance hierarchy so all three derived classes can access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olating functionality up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illars of OO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Orientated program should have the following three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lementation of an object is hidden from the it’s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is delegated to well defined single purpose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s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ject of this lec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O designed program determines how the modeled system responds to a given e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O program is not written to answer a specific question, it is written to answer any number of questions that may be asked in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drilater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6491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ture iteration of the code will make use of seve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ila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the parallel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04000" y="246240"/>
            <a:ext cx="1943280" cy="24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00720" y="4724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433840" y="2795760"/>
            <a:ext cx="3387960" cy="4483080"/>
            <a:chOff x="5433840" y="2795760"/>
            <a:chExt cx="3387960" cy="4483080"/>
          </a:xfrm>
        </p:grpSpPr>
        <p:sp>
          <p:nvSpPr>
            <p:cNvPr id="167" name=""/>
            <p:cNvSpPr/>
            <p:nvPr/>
          </p:nvSpPr>
          <p:spPr>
            <a:xfrm>
              <a:off x="5433840" y="2795760"/>
              <a:ext cx="3241800" cy="448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parallelogram 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arallelogram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 Quadrilateral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arallelogram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~Parallelogram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bas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double area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double perimeter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otecte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itsAngl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3080" y="634536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8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2720" y="2521080"/>
            <a:ext cx="4030560" cy="5306040"/>
            <a:chOff x="612720" y="2521080"/>
            <a:chExt cx="4030560" cy="5306040"/>
          </a:xfrm>
        </p:grpSpPr>
        <p:sp>
          <p:nvSpPr>
            <p:cNvPr id="170" name=""/>
            <p:cNvSpPr/>
            <p:nvPr/>
          </p:nvSpPr>
          <p:spPr>
            <a:xfrm>
              <a:off x="612720" y="2521080"/>
              <a:ext cx="3888000" cy="5306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quadrilateral class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Quadrilateral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Quadrilateral(){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~Quadrilateral(){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 diagonalLine(int corner=1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ect diagonalVect(int corner=1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double area() </a:t>
              </a:r>
              <a:r>
                <a:rPr b="1" lang="en-US" sz="2000" spc="-1" strike="noStrike">
                  <a:solidFill>
                    <a:srgbClr val="000000"/>
                  </a:solidFill>
                  <a:latin typeface="High Tower Text"/>
                </a:rPr>
                <a:t>= 0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double perimeter() </a:t>
              </a:r>
              <a:r>
                <a:rPr b="1" lang="en-US" sz="2000" spc="-1" strike="noStrike">
                  <a:solidFill>
                    <a:srgbClr val="000000"/>
                  </a:solidFill>
                  <a:latin typeface="High Tower Text"/>
                </a:rPr>
                <a:t>= 0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otecte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LowerLef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LowerRigh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UpperLef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UpperRigh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14560" y="634536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8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Bas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rtual functions contain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ilate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had no implementation. 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e virtual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35164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ilate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s included in the program to provide a general defini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out providing all the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xpected that a sub-class will implement the methods outlin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ilate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in fact 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lasses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tra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cannot be instantiated from ABCs since they would not be fully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2565360"/>
            <a:ext cx="489744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irtual double area() 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= 0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        // mus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irtual double perimeter() 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= 0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set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ly Abstract Bas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e class that provides no implementation and has no members is known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ely abstract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60360" y="2494080"/>
            <a:ext cx="3743280" cy="2562840"/>
            <a:chOff x="1260360" y="2494080"/>
            <a:chExt cx="3743280" cy="2562840"/>
          </a:xfrm>
        </p:grpSpPr>
        <p:sp>
          <p:nvSpPr>
            <p:cNvPr id="179" name=""/>
            <p:cNvSpPr/>
            <p:nvPr/>
          </p:nvSpPr>
          <p:spPr>
            <a:xfrm>
              <a:off x="1260360" y="2494080"/>
              <a:ext cx="3600360" cy="256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shape class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Shape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Shape(){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~Shape(){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double area() = 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irtual double perimeter() = 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6360" y="440028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9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68360" y="491328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provides a statement of intent for all “shape-like” classes; Each shape o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ccess to class methods that return area and peri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BCs are often written once the overall design of the classes has been fully 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2452680"/>
            <a:ext cx="2192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348000" y="2205000"/>
            <a:ext cx="51134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rectangl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ectangle: 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X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must redefine Point’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members as they were private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Has-a-kind-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++ distinguishes betwee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s-a-kind-o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ationships and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as-a-kind-o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ationshi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2205000"/>
            <a:ext cx="266400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rectangl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ectang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itsLowerL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221000"/>
            <a:ext cx="8229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makes use of 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implementation but as it’s not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kind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int it doesn’t inherit from it. This is calle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ain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lternative to containment i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vate inherita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&gt; public members of base become private to derived clas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Derives implementation of the class but throws away the interface =&gt; breaks encapsulation  =&gt; not in OO style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75640" y="1773360"/>
            <a:ext cx="2160360" cy="1382040"/>
            <a:chOff x="6875640" y="1773360"/>
            <a:chExt cx="2160360" cy="1382040"/>
          </a:xfrm>
        </p:grpSpPr>
        <p:sp>
          <p:nvSpPr>
            <p:cNvPr id="189" name=""/>
            <p:cNvSpPr/>
            <p:nvPr/>
          </p:nvSpPr>
          <p:spPr>
            <a:xfrm>
              <a:off x="6876720" y="1773360"/>
              <a:ext cx="2087280" cy="1368360"/>
            </a:xfrm>
            <a:prstGeom prst="wedgeRoundRectCallout">
              <a:avLst>
                <a:gd name="adj1" fmla="val -83537"/>
                <a:gd name="adj2" fmla="val -55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5640" y="1844640"/>
              <a:ext cx="216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lso have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tecte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inheritance: public members of base class become private in deri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C++, categorisation is given by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heritance hierarchie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pture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ationship between objects: an objec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herits all the characteristics of oth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s higher up inheritance hierarch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heritance 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s a kind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Alternativel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ch object should be distinct and provide a well defined service but there can be great deal of overlap in functionality between different objec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onality across multiple classes can  be extracted and placed in a “super” cla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heritance can provide reusability AND categorisation but the two concepts are not the sam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65800" y="1773360"/>
            <a:ext cx="1906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Arial"/>
              </a:rPr>
              <a:t>Indicating Inheritance in C++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heritance is signified 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riv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y plac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, from which it derives, after a col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2349360"/>
            <a:ext cx="1944720" cy="272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On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4103640" cy="305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Two: 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lass One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12928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nheri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not private) member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 new keywor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can be accessed by base class &amp; derived clas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ting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41148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tangle could be viewed as a specialisation of a more general shape: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ta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a kind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llelogram. Therefo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an be written to inheri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43280" y="1341360"/>
            <a:ext cx="4034160" cy="5862600"/>
            <a:chOff x="4643280" y="1341360"/>
            <a:chExt cx="4034160" cy="5862600"/>
          </a:xfrm>
        </p:grpSpPr>
        <p:sp>
          <p:nvSpPr>
            <p:cNvPr id="57" name=""/>
            <p:cNvSpPr/>
            <p:nvPr/>
          </p:nvSpPr>
          <p:spPr>
            <a:xfrm>
              <a:off x="4643280" y="1349280"/>
              <a:ext cx="3961080" cy="585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Rectangle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ctangl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ctangle(Point ll, Point ur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ctangle(double length,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width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ctangle(Point ll, double length,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width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~Rectangl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length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width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area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bool isOverlap(Rectangle a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LowerLef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LowerRigh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UpperLef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UpperRigh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134136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Rectangle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ing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887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ember data and all the class methods from the Parallel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still needs to contain its own c’tors and d’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076640"/>
            <a:ext cx="439236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#include “Parallelogram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ctangle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ectangle : public Parallelogra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(Point ll, Point u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Rectangle()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’tor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alls base d’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59280" y="1611360"/>
            <a:ext cx="3816360" cy="6129000"/>
            <a:chOff x="4859280" y="1611360"/>
            <a:chExt cx="3816360" cy="6129000"/>
          </a:xfrm>
        </p:grpSpPr>
        <p:sp>
          <p:nvSpPr>
            <p:cNvPr id="63" name=""/>
            <p:cNvSpPr/>
            <p:nvPr/>
          </p:nvSpPr>
          <p:spPr>
            <a:xfrm>
              <a:off x="4859280" y="1611360"/>
              <a:ext cx="3816360" cy="612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parallelogram class decl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arallelogram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arallelogram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arallelogram(double len_a,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len_b,double angle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~Parallelogram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angle between non-para sides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angl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bas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height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area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perimeter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otecte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itsLowerLef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itsAngl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627228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2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08720" y="3949560"/>
            <a:ext cx="1644840" cy="27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ed Class 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happens whe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uctor is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ed data members are initialised by call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or from constructor of the derived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onstructors are call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the constructor of the derived class (extension of initialisation li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4005360"/>
            <a:ext cx="5688000" cy="283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#include “Paralleologram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fault c’tor for unit 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::Rectangle(): Parallelogram(1,1,9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structor for length and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::Rectangle(double length, double width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arallelogram(length,width,9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ing Class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90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ty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can be extended by adding new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class metho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() overrid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thod inherited from the Parallelogra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4149720"/>
            <a:ext cx="460836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 beta(Point(2,2,0),Point(5,5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beta base: 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beta.base()    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beta length: 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beta.length(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beta area: 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beta.area()    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beta area: 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beta.Parallelogram::area()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357720"/>
            <a:ext cx="3827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oon as a member function is created with same name as one in base clas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verloaded instances of base class method are hid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(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from the base class can be still called using the ful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fu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03640" y="1197000"/>
            <a:ext cx="4032360" cy="3111480"/>
            <a:chOff x="5003640" y="1197000"/>
            <a:chExt cx="4032360" cy="3111480"/>
          </a:xfrm>
        </p:grpSpPr>
        <p:sp>
          <p:nvSpPr>
            <p:cNvPr id="74" name=""/>
            <p:cNvSpPr/>
            <p:nvPr/>
          </p:nvSpPr>
          <p:spPr>
            <a:xfrm>
              <a:off x="5003640" y="1197000"/>
              <a:ext cx="3888000" cy="31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rectangle class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Rectangle : public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arallelogram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overrides parallelogram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area(); 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…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area(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length();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same as 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width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bool isOverlap(Rectangle a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720" y="367992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3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an One Derived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0760"/>
            <a:ext cx="35384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becomes useful once multiple classes inheri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as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omb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, as well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herit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52600" y="4508640"/>
            <a:ext cx="3298680" cy="1757160"/>
            <a:chOff x="552600" y="4508640"/>
            <a:chExt cx="3298680" cy="1757160"/>
          </a:xfrm>
        </p:grpSpPr>
        <p:grpSp>
          <p:nvGrpSpPr>
            <p:cNvPr id="79" name=""/>
            <p:cNvGrpSpPr/>
            <p:nvPr/>
          </p:nvGrpSpPr>
          <p:grpSpPr>
            <a:xfrm>
              <a:off x="552600" y="4508640"/>
              <a:ext cx="3298680" cy="1757160"/>
              <a:chOff x="552600" y="4508640"/>
              <a:chExt cx="3298680" cy="17571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52600" y="4508640"/>
                <a:ext cx="3298680" cy="1757160"/>
                <a:chOff x="552600" y="4508640"/>
                <a:chExt cx="3298680" cy="1757160"/>
              </a:xfrm>
            </p:grpSpPr>
            <p:pic>
              <p:nvPicPr>
                <p:cNvPr id="81" name="" descr=""/>
                <p:cNvPicPr/>
                <p:nvPr/>
              </p:nvPicPr>
              <p:blipFill>
                <a:blip r:embed="rId1"/>
                <a:srcRect l="0" t="4506" r="0" b="31874"/>
                <a:stretch/>
              </p:blipFill>
              <p:spPr>
                <a:xfrm>
                  <a:off x="552600" y="4538520"/>
                  <a:ext cx="2363760" cy="172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>
                  <a:off x="2556000" y="4508640"/>
                  <a:ext cx="12952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cc00"/>
                      </a:solidFill>
                      <a:latin typeface="Arial"/>
                    </a:rPr>
                    <a:t>Diagonals of rhombus intersect at right ang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268360" y="6265800"/>
                <a:ext cx="790920" cy="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V="1">
              <a:off x="3059280" y="5330520"/>
              <a:ext cx="0" cy="934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213080" y="6292800"/>
            <a:ext cx="4680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Line(itsLowerRight,itsUpperLe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24360" y="1341360"/>
            <a:ext cx="5040360" cy="5580360"/>
            <a:chOff x="3924360" y="1341360"/>
            <a:chExt cx="5040360" cy="5580360"/>
          </a:xfrm>
        </p:grpSpPr>
        <p:sp>
          <p:nvSpPr>
            <p:cNvPr id="87" name=""/>
            <p:cNvSpPr/>
            <p:nvPr/>
          </p:nvSpPr>
          <p:spPr>
            <a:xfrm>
              <a:off x="3924360" y="1341360"/>
              <a:ext cx="4968720" cy="558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rhombus class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Rhombus : public Parallelogram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hombus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hombus(double length, double angle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hombus(Point ll, double length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angle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hombus(Point ll, Point lr, double angle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~Rhombus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length() {return itsLength;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 diagonalLine(int corner=1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ect diagonalVect(int corner=1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overrides base class method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perimeter() {return 4*itsLength;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otected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itsLength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8720" y="56959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hapes4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627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onal line returned via line c’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08:46Z</dcterms:created>
  <dc:creator>sarah</dc:creator>
  <dc:description/>
  <dc:language>en-US</dc:language>
  <cp:lastModifiedBy>Administrator</cp:lastModifiedBy>
  <dcterms:modified xsi:type="dcterms:W3CDTF">2007-08-24T12:47:45Z</dcterms:modified>
  <cp:revision>51</cp:revision>
  <dc:subject/>
  <dc:title>Slide 1</dc:title>
</cp:coreProperties>
</file>