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731-73D7-446D-89CD-1E5EB725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3BE-AC2B-4B78-8CB4-A629A7A7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CE7-4213-4123-BE67-7CCA25F8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124-4074-4A04-A23A-ABD73C51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065-F574-472F-91B4-13C31AF0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332-7118-4340-BF89-001604AF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185-71D3-4065-9501-8AFE989A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48A-9423-41AA-8CE3-D4432A34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4C0-CC11-4B77-8516-2E988CC9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6B8-39E0-473F-97C8-3DBC4E4B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3A0-7192-47E5-959E-9EF781BF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2FA-885F-4DD6-958F-1194A70F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0239-AE68-44EB-9D50-A2034F0A8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william@hep.ph.liv.ac.uk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Programming using 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900000" y="2924280"/>
            <a:ext cx="7417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cture Ten: File I/O and St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258920" y="4581360"/>
            <a:ext cx="6626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arl Gwill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High Tower Text"/>
                <a:hlinkClick r:id="rId1"/>
              </a:rPr>
              <a:t>gwilliam@hep.ph.liv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http://hep.ph.liv.ac.uk/~gwilliam/cpp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e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several useful functions to check the state of the read/write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89080" y="2282760"/>
          <a:ext cx="6912000" cy="2455920"/>
        </p:xfrm>
        <a:graphic>
          <a:graphicData uri="http://schemas.openxmlformats.org/drawingml/2006/table">
            <a:tbl>
              <a:tblPr/>
              <a:tblGrid>
                <a:gridCol w="1087560"/>
                <a:gridCol w="5824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if reading/writing fails (e.g. file not open or no space left on dev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bad() but also true if a format error occurs (e.g. read an alphabetical char where num expect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f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s true if a file open for reading reaches 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tion: false if any of above is 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34"/>
          <p:cNvSpPr/>
          <p:nvPr/>
        </p:nvSpPr>
        <p:spPr>
          <a:xfrm>
            <a:off x="468360" y="515772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used to see when we should stop reading/writing. 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5"/>
          <p:cNvSpPr/>
          <p:nvPr/>
        </p:nvSpPr>
        <p:spPr>
          <a:xfrm>
            <a:off x="4716360" y="5084640"/>
            <a:ext cx="3816360" cy="1618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int i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while (i++&lt;10 &amp;&amp; ! fiile.bad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file &lt;&lt; “Line of text ” &lt;&lt;i&lt;&lt; \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e Stream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often need to specify where in a file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 text from 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 text to.  We can do this with the function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ekg(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ekp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have several forms but the most useful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cursor to beginning o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cursor to the end o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e where the cursor currently is we can use the function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llp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llg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292720" y="3460680"/>
            <a:ext cx="3097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ile.seekg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ile.seekp(0, ios::en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ding from a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ing from a file is done in exactly the same way as reading from the screen with cin, us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ing stops at any blank chara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 used to read tables of input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500720" y="1336680"/>
            <a:ext cx="4248000" cy="692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#include &lt;f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    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reading a tex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stream file("mytable.tx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loat mass, char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file.is_open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ile.seekg(0);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beginning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while (!file.eof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ile &gt;&gt; name &gt;&gt; mass &gt;&gt; char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name &lt;&lt; "\t" &lt;&lt; m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&lt;&lt; "\t" &lt;&lt; charge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ile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 else cout &lt;&lt; "Unable to open file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71640" y="5194440"/>
            <a:ext cx="2736720" cy="1465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0511  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06        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7771      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38          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40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ding by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422360"/>
            <a:ext cx="3898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 can also be read by line using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tline(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500720" y="1474920"/>
            <a:ext cx="4248000" cy="52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igh Tower Text"/>
              </a:rPr>
              <a:t>#include&lt;f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 {      </a:t>
            </a:r>
            <a:r>
              <a:rPr b="0" lang="en-US" sz="2000" spc="-1" strike="noStrike">
                <a:solidFill>
                  <a:srgbClr val="333399"/>
                </a:solidFill>
                <a:latin typeface="High Tower Text"/>
              </a:rPr>
              <a:t>// read by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stream file("myfile.tx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string li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f (file.is_open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ile.seekg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while (!file.eof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getline(file, lin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line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ile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 else cout &lt;&lt; "Unable to open file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11280" y="3141720"/>
            <a:ext cx="367164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getline (ifstream&amp; stream,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string&amp;      l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har            del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68360" y="4797360"/>
            <a:ext cx="389880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tional delim arg can be used to specify what is used to delim lines (default is \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control the way the output of any stream (be it cout or a file) is formatted in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done via an associated set of format flags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76360" y="2924280"/>
          <a:ext cx="6853320" cy="3565440"/>
        </p:xfrm>
        <a:graphic>
          <a:graphicData uri="http://schemas.openxmlformats.org/drawingml/2006/table">
            <a:tbl>
              <a:tblPr/>
              <a:tblGrid>
                <a:gridCol w="1811520"/>
                <a:gridCol w="504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 justify 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justify output (defaul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numbers in decimal (defaul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numbers in oc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number in hexi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floats as normal (defaul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if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floats in scientific no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)show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 leading + sign for +ve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)show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 decimal point &amp; trailing 0’s for fl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75"/>
          <p:cNvSpPr/>
          <p:nvPr/>
        </p:nvSpPr>
        <p:spPr>
          <a:xfrm rot="16200000">
            <a:off x="-345960" y="44593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name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two separate ways to set these fl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tf(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setf(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s of the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68360" y="332892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ain these can be compined using the OR operator (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ipul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cluded in I/O stream betwee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68360" y="472428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 that in this case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mespace is not nee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rmatting applies to all subsequent output statements unless explicitly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050920" y="2349360"/>
            <a:ext cx="4969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.setf(ios::left);  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left jus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cout.unsetf(ios::left);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back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050920" y="4221000"/>
            <a:ext cx="4969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ile &lt;&lt; scientific &lt;&lt; 10.12345 &lt;&lt; “\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979640" y="5950080"/>
            <a:ext cx="504036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ile &lt;&lt; 10.1234 &lt;&lt; “\n”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still scient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file &lt;&lt; fixed &lt;&lt; 10.1234 &lt;&lt; “\n” </a:t>
            </a:r>
            <a:r>
              <a:rPr b="0" lang="en-US" sz="2400" spc="-1" strike="noStrike">
                <a:solidFill>
                  <a:srgbClr val="333399"/>
                </a:solidFill>
                <a:latin typeface="High Tower Text"/>
              </a:rPr>
              <a:t>//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cision and Wid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also vary the width of the output field and the precision of floats.  Again there are two parallel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default output only occupies as much space as num of characters, but we can specify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minu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46040" y="379872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change the number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gnificant figu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t d.p.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played for floats from the default value of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68360" y="55990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f use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recision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ogether we can set num decimal places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these alterations apply to all subsequent output or just the next output is implementation dependent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928800" y="2997360"/>
            <a:ext cx="5732280" cy="1434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.</a:t>
            </a:r>
            <a:r>
              <a:rPr b="1" lang="en-US" sz="2200" spc="-1" strike="noStrike">
                <a:solidFill>
                  <a:srgbClr val="000000"/>
                </a:solidFill>
                <a:latin typeface="High Tower Text"/>
              </a:rPr>
              <a:t>width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(10);          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min width is 10 ch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</a:t>
            </a:r>
            <a:r>
              <a:rPr b="1" lang="en-US" sz="2200" spc="-1" strike="noStrike">
                <a:solidFill>
                  <a:srgbClr val="000000"/>
                </a:solidFill>
                <a:latin typeface="High Tower Text"/>
              </a:rPr>
              <a:t>setw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(10) &lt;&lt; 100 &lt;&lt; endl;       </a:t>
            </a: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altern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2"/>
          <p:cNvGrpSpPr/>
          <p:nvPr/>
        </p:nvGrpSpPr>
        <p:grpSpPr>
          <a:xfrm>
            <a:off x="1042920" y="4653000"/>
            <a:ext cx="6838920" cy="1505880"/>
            <a:chOff x="1042920" y="4653000"/>
            <a:chExt cx="6838920" cy="1505880"/>
          </a:xfrm>
        </p:grpSpPr>
        <p:sp>
          <p:nvSpPr>
            <p:cNvPr id="122" name="Text Box 9"/>
            <p:cNvSpPr/>
            <p:nvPr/>
          </p:nvSpPr>
          <p:spPr>
            <a:xfrm>
              <a:off x="1042920" y="4724280"/>
              <a:ext cx="6767640" cy="143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cout.</a:t>
              </a:r>
              <a:r>
                <a:rPr b="1" lang="en-US" sz="2200" spc="-1" strike="noStrike">
                  <a:solidFill>
                    <a:srgbClr val="000000"/>
                  </a:solidFill>
                  <a:latin typeface="High Tower Text"/>
                </a:rPr>
                <a:t>precision</a:t>
              </a: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(3);                    </a:t>
              </a:r>
              <a:r>
                <a:rPr b="0" lang="en-US" sz="2200" spc="-1" strike="noStrike">
                  <a:solidFill>
                    <a:srgbClr val="333399"/>
                  </a:solidFill>
                  <a:latin typeface="High Tower Text"/>
                </a:rPr>
                <a:t>// 3 significant figures</a:t>
              </a: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cout &lt;&lt; </a:t>
              </a:r>
              <a:r>
                <a:rPr b="1" lang="en-US" sz="2200" spc="-1" strike="noStrike">
                  <a:solidFill>
                    <a:srgbClr val="000000"/>
                  </a:solidFill>
                  <a:latin typeface="High Tower Text"/>
                </a:rPr>
                <a:t>setprecision</a:t>
              </a:r>
              <a:r>
                <a:rPr b="0" lang="en-US" sz="2200" spc="-1" strike="noStrike">
                  <a:solidFill>
                    <a:srgbClr val="000000"/>
                  </a:solidFill>
                  <a:latin typeface="High Tower Text"/>
                </a:rPr>
                <a:t>(3) &lt;&lt; 10.1234 &lt;&lt; endl;  </a:t>
              </a:r>
              <a:r>
                <a:rPr b="0" lang="en-US" sz="2200" spc="-1" strike="noStrike">
                  <a:solidFill>
                    <a:srgbClr val="333399"/>
                  </a:solidFill>
                  <a:latin typeface="High Tower Text"/>
                </a:rPr>
                <a:t>//alternativ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7234200" y="4653000"/>
              <a:ext cx="64764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7"/>
          <p:cNvGrpSpPr/>
          <p:nvPr/>
        </p:nvGrpSpPr>
        <p:grpSpPr>
          <a:xfrm>
            <a:off x="6659280" y="3078000"/>
            <a:ext cx="1945080" cy="2295720"/>
            <a:chOff x="6659280" y="3078000"/>
            <a:chExt cx="1945080" cy="2295720"/>
          </a:xfrm>
        </p:grpSpPr>
        <p:sp>
          <p:nvSpPr>
            <p:cNvPr id="125" name="Text Box 5"/>
            <p:cNvSpPr/>
            <p:nvPr/>
          </p:nvSpPr>
          <p:spPr>
            <a:xfrm>
              <a:off x="7526160" y="3078000"/>
              <a:ext cx="1078200" cy="100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ioman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High Tower Text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H="1">
              <a:off x="6659280" y="3573360"/>
              <a:ext cx="865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8388360" y="3789360"/>
              <a:ext cx="0" cy="1584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H="1">
              <a:off x="7811640" y="5373720"/>
              <a:ext cx="576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matting Output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11280" y="944640"/>
            <a:ext cx="8137440" cy="640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#include&lt;iomani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int inum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cout &lt;&lt; left &lt;&lt; setw(15) &lt;&lt; "Integ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&lt;&lt; right&lt;&lt; setw(15) &lt;&lt; dec &lt;&lt; inum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High Tower Text"/>
              </a:rPr>
              <a:t>//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&lt;&lt; setw(15) &lt;&lt; oct &lt;&lt; inum              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High Tower Text"/>
              </a:rPr>
              <a:t>// oc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&lt;&lt; setw(15) &lt;&lt; hex &lt;&lt; inum             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High Tower Text"/>
              </a:rPr>
              <a:t>// hexi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&lt;&lt; setw(15) &lt;&lt; showpos &lt;&lt; dec &lt;&lt; inum &lt;&lt; endl;     </a:t>
            </a:r>
            <a:r>
              <a:rPr b="0" lang="en-US" sz="1800" spc="-1" strike="noStrike">
                <a:solidFill>
                  <a:srgbClr val="333399"/>
                </a:solidFill>
                <a:latin typeface="High Tower Text"/>
              </a:rPr>
              <a:t>// with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cout.unsetf(</a:t>
            </a:r>
            <a:r>
              <a:rPr b="1" lang="en-US" sz="1800" spc="-1" strike="noStrike">
                <a:solidFill>
                  <a:srgbClr val="000000"/>
                </a:solidFill>
                <a:latin typeface="High Tower Text"/>
              </a:rPr>
              <a:t>ios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::showpo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double fnum = 10.123456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cout &lt;&lt; left &lt;&lt; setw(15) &lt;&lt; "Floa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&lt;&lt; right &lt;&lt; setw(15) &lt;&lt; fnum                           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High Tower Text"/>
              </a:rPr>
              <a:t>// default (6 s.f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&lt;&lt; setw(15) &lt;&lt; setprecision(3) &lt;&lt; fnum           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High Tower Text"/>
              </a:rPr>
              <a:t>// 3 s. 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&lt;&lt; setw(15) &lt;&lt; fixed &lt;&lt; setprecision(3) &lt;&lt; fnum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High Tower Text"/>
              </a:rPr>
              <a:t>// 3 d.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&lt;&lt; setw(15) &lt;&lt; scientific &lt;&lt; setprecision(3) &lt;&lt; fnum &lt;&lt; endl;  </a:t>
            </a:r>
            <a:r>
              <a:rPr b="0" lang="en-US" sz="1800" spc="-1" strike="noStrike">
                <a:solidFill>
                  <a:srgbClr val="333399"/>
                </a:solidFill>
                <a:latin typeface="High Tower Text"/>
              </a:rPr>
              <a:t>// scient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cout.unsetf(</a:t>
            </a:r>
            <a:r>
              <a:rPr b="1" lang="en-US" sz="1800" spc="-1" strike="noStrike">
                <a:solidFill>
                  <a:srgbClr val="000000"/>
                </a:solidFill>
                <a:latin typeface="High Tower Text"/>
              </a:rPr>
              <a:t>ios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::scientific); cout.precision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cout &lt;&lt; "Back to normal = " &lt;&lt; inum &lt;&lt; " " &lt;&lt; fnum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56000" y="990720"/>
            <a:ext cx="6408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                   100           144                 64              +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at               10.1235           10.1         10.123      1.012e+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normal = 100 10.1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ing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372360" y="692280"/>
            <a:ext cx="2592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#include&lt;s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ingstream allows a string to be used as a 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645080" y="2205000"/>
            <a:ext cx="4103640" cy="47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High Tower Text"/>
              </a:rPr>
              <a:t>#include&lt;sstrea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main(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tringstream s1("Carl is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1 &lt;&lt; 27 &lt;&lt; " years old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s1.str() &lt;&lt; end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stringstream s2("28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i; s2 &gt;&gt; 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"Next birthday he'll be 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&lt;&lt; i &lt;&lt; end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68360" y="2060640"/>
            <a:ext cx="3959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llows us to extract and insert from/to strings in same way as screen or files, and is useful to convert between nums and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insert to stringstream  vi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extract from it vi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trieve the string from the stringstream we use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ebugger (gd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debuggers which can help you find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linux with the g++ complier, the debugger is call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291280" y="2637000"/>
            <a:ext cx="2881080" cy="430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void func(char* temp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i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temp[3] = 'F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or (i =0 ; i &lt; 5 ; i++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out &lt;&lt; temp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int main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char *temp = "Para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func(temp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2565360"/>
            <a:ext cx="460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ie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troduction to this we will look at this code, which causes a seg fa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ore info you can see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ourceware.org/gdb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o make the most out of the debugger we must compile the code i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g++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–g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debug.cpp –o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Note on 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spaces allow us to localise the names of identifiers (vars, funcs, …) so as to avoid collisions between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if you define a function called pow() in your code it could override the std library pow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group entities under a name we use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eywor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9"/>
          <p:cNvGrpSpPr/>
          <p:nvPr/>
        </p:nvGrpSpPr>
        <p:grpSpPr>
          <a:xfrm>
            <a:off x="2340000" y="3672000"/>
            <a:ext cx="6191280" cy="1557000"/>
            <a:chOff x="2340000" y="3672000"/>
            <a:chExt cx="6191280" cy="1557000"/>
          </a:xfrm>
        </p:grpSpPr>
        <p:sp>
          <p:nvSpPr>
            <p:cNvPr id="47" name="Text Box 5"/>
            <p:cNvSpPr/>
            <p:nvPr/>
          </p:nvSpPr>
          <p:spPr>
            <a:xfrm>
              <a:off x="2340000" y="3672000"/>
              <a:ext cx="2592360" cy="155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namespace name 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// decla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6"/>
            <p:cNvSpPr/>
            <p:nvPr/>
          </p:nvSpPr>
          <p:spPr>
            <a:xfrm>
              <a:off x="5651640" y="3672000"/>
              <a:ext cx="287964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namespace first 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int x = 1, y =2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High Tower Text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4932360" y="4292640"/>
              <a:ext cx="719280" cy="144360"/>
            </a:xfrm>
            <a:prstGeom prst="rightArrow">
              <a:avLst>
                <a:gd name="adj1" fmla="val 50000"/>
                <a:gd name="adj2" fmla="val 12456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"/>
            <p:cNvSpPr/>
            <p:nvPr/>
          </p:nvSpPr>
          <p:spPr>
            <a:xfrm>
              <a:off x="5003640" y="392580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.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Rectangle 10"/>
          <p:cNvSpPr/>
          <p:nvPr/>
        </p:nvSpPr>
        <p:spPr>
          <a:xfrm>
            <a:off x="468360" y="505620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amespace must be declared outside all other sco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members of the standard C++ library (e.g. cout, endl, vector …) are within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been using this all along without knowing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ebugger (gd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2276640"/>
          <a:ext cx="8229600" cy="4063680"/>
        </p:xfrm>
        <a:graphic>
          <a:graphicData uri="http://schemas.openxmlformats.org/drawingml/2006/table">
            <a:tbl>
              <a:tblPr/>
              <a:tblGrid>
                <a:gridCol w="1811160"/>
                <a:gridCol w="641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&lt;args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the program (with any command line argumen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 &lt;plac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a place for the program to halt (e.g. line, func,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 current line of program and then s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 but will execute function call if on 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until next breakpoint (or e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chain of function calls (most recent at to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 loc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value of any local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 ar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 value of any arguments to a 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 &lt;var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 the value of a specific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 gdb (and stop and currently running prog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79"/>
          <p:cNvSpPr/>
          <p:nvPr/>
        </p:nvSpPr>
        <p:spPr>
          <a:xfrm>
            <a:off x="457200" y="14842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more useful gdb 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ebugger (gd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ing simple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b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ing program: /user1/gwilliam/cppcourse/Examples/lecture10ex/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 received signal SIGSEGV, Segmentation fa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x080486f7 in func (temp=0x80488d8 "Paras") at debug.cpp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         temp[3] = 'F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ck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0  0x080486f7 in func (temp=0x80488d8 "Paras") at debug.cpp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1  0x08048758 in main () at debug.cpp: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ebugger (gd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ting more detailed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b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kpoint 1 at 0x8048746: file debug.cpp, line 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kpoint 2 at 0x80486ea: file debug.cpp, line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ing program: /user1/gwilliam/cppcourse/Examples/lecture10ex/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kpoint 1, main () at debug.cpp: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        char *temp = "Paras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inu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kpoint 2, func (temp=0x80488d8 "Paras") at debug.cpp: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         int i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ebugger (gd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         temp[3] = 'F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mp = 0x80488d8 "Para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 received signal SIGSEGV, Segmentation fa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x080486f7 in func (temp=0x80488d8 "Paras") at debug.cpp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         temp[3] = 'F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 terminated with signal SIGSEGV, Segmentation fa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gram no longer ex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pefully this course has provided you with an understanding of the basics of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 is a complicated language and I certainly didn’t cover ever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 feel free to bug me if you have questions about any of the material in the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ly, thank you for listening to me prattle on for 10 hou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 leave you wi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est excuse for wasting ti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compiling"/>
          <p:cNvPicPr/>
          <p:nvPr/>
        </p:nvPicPr>
        <p:blipFill>
          <a:blip r:embed="rId1"/>
          <a:stretch/>
        </p:blipFill>
        <p:spPr>
          <a:xfrm>
            <a:off x="1949400" y="1773360"/>
            <a:ext cx="524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Note on 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ccess elements of a namespace from outside we use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ope resol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perator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59280" y="2276640"/>
            <a:ext cx="31683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cout &lt;&lt; first::x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278136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to use elements of a namespace often you can avoid having to scope them each time by using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eywor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932360" y="4005360"/>
            <a:ext cx="3384720" cy="73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using namespace firs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cout &lt;&lt; x &lt;&lt; end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68360" y="4005360"/>
            <a:ext cx="44640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 all elements of the namespace into vie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 only particular elements of the namespace into 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932360" y="5013360"/>
            <a:ext cx="338616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using first::x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cout &lt;&lt; x &lt;&lt; endl; </a:t>
            </a:r>
            <a:r>
              <a:rPr b="0" lang="en-US" sz="2100" spc="-1" strike="noStrike">
                <a:solidFill>
                  <a:srgbClr val="333399"/>
                </a:solidFill>
                <a:latin typeface="High Tower Text"/>
              </a:rPr>
              <a:t>// 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igh Tower Text"/>
              </a:rPr>
              <a:t>cout &lt;&lt; y &lt;&lt; endl; </a:t>
            </a:r>
            <a:r>
              <a:rPr b="0" lang="en-US" sz="2100" spc="-1" strike="noStrike">
                <a:solidFill>
                  <a:srgbClr val="333399"/>
                </a:solidFill>
                <a:latin typeface="High Tower Text"/>
              </a:rPr>
              <a:t>//err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95280" y="602136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multiple namespaces simply brings all set of elements into view (which is fine of they don’t clash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hough you may not realise it, we have already come across streams: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objects of typ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tr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spectively.  Together they make 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ostr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also complementary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rea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stream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 to write to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stream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lass to read from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stream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bined class to read/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ing and writing from/to files is very similar to using cin/cout; we just need to associate the streams to fi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724360" y="4103640"/>
            <a:ext cx="26654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#include&lt;of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#include&lt;if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#include&lt;f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ing/Closing a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thing we want to do with a stream is associate it to a real file i.e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ile.  This can be done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mber fun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46040" y="397656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, more simply, using one of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46040" y="522936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methods take the filename as a character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he same for reading or writing, except you use ifstream and ofstream resepctive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411280" y="2997360"/>
            <a:ext cx="446436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stream file;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input o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ile.open(“myfile.txt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411280" y="4581360"/>
            <a:ext cx="4464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stream file(“myfile.txt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ing/Closing a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test if the file has been successfully opened there is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_open(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419256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we’re finished with a file we mus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340000" y="2664000"/>
            <a:ext cx="4464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f (file.is_open(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file is open, do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8360" y="570384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the file is closed, the stream objec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be used to refer to a new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340000" y="4941720"/>
            <a:ext cx="4464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ile.close();  </a:t>
            </a:r>
            <a:r>
              <a:rPr b="0" lang="en-GB" sz="2400" spc="-1" strike="noStrike">
                <a:solidFill>
                  <a:srgbClr val="333399"/>
                </a:solidFill>
                <a:latin typeface="High Tower Text"/>
              </a:rPr>
              <a:t>// close myfil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e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the methods to open a file mentioned above take an option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g, describing how it is to be open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68360" y="3213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 various modes, which are i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amespace,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411280" y="2276640"/>
            <a:ext cx="41054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iostream file(filename, mode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ile.open(filename, mod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42920" y="3716280"/>
          <a:ext cx="6527880" cy="2924280"/>
        </p:xfrm>
        <a:graphic>
          <a:graphicData uri="http://schemas.openxmlformats.org/drawingml/2006/table">
            <a:tbl>
              <a:tblPr/>
              <a:tblGrid>
                <a:gridCol w="1440000"/>
                <a:gridCol w="508788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s::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for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s::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for 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s::a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nd to end of current file (output on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s::tru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previous content of file (output on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s::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at the end of the file (default is st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s::b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n binary (rather then text)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e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712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modes can be combined us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or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3139920"/>
            <a:ext cx="8229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, the mode isn’t explicitly specified since there are default modes for the different strea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stream: ios::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stream:  ios::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stream:   ios::in | ios::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only cover text files in this course, not binary mode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906560" y="2314440"/>
            <a:ext cx="5473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igh Tower Text"/>
              </a:rPr>
              <a:t>file.open(“myfile.txt”, ios::out | ios::ap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riting to a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ing to a file is done in exactly the same way as writing to the screen with cout, us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ew line is delimited with eith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\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284720" y="1557360"/>
            <a:ext cx="4359240" cy="579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High Tower Text"/>
              </a:rPr>
              <a:t>// writing on a text file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#include &lt;fstream&gt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nt main () {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ofstream file(“myfile.txt"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if (file.is_open()) {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ile &lt;&lt; "This is a line“  &lt;&lt; endl;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ile &lt;&lt; "This is another.\n"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file.close(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cout &lt;&lt; "Unable to open file\n";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return 0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igh Tower Text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187280" y="4819680"/>
            <a:ext cx="223236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myfile.tx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4:00:57Z</dcterms:created>
  <dc:creator>sarah</dc:creator>
  <dc:description/>
  <dc:language>en-US</dc:language>
  <cp:lastModifiedBy>gwilliam</cp:lastModifiedBy>
  <dcterms:modified xsi:type="dcterms:W3CDTF">2008-10-31T09:19:08Z</dcterms:modified>
  <cp:revision>159</cp:revision>
  <dc:subject/>
  <dc:title>Slide 1</dc:title>
</cp:coreProperties>
</file>