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0D2-C42A-461F-A343-BC71B040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570-C918-48B8-A4EA-467875DB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609-49ED-4685-8056-416BC9C5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817-F443-4651-99FF-F507452D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DC5-A3D2-4D41-9E73-DD206EF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5A3-0C92-4C17-AC72-5465813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F66-FF49-4F2E-BEDE-75EE6A3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6EB-EF3F-4F7F-BCE4-26B6D951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315-F4AF-477C-9163-87A322A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CB0-8E3A-44D5-AF76-08D429F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473-A7A8-493D-9836-9206FBD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E4D-5C4C-4362-990F-B835525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B640-F2D8-49C3-8680-510090ED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924280"/>
            <a:ext cx="698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Six: Classes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Lin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w apply same design to creat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is defined as a point of origin in space, and a direction in x, y and 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can be constructed in three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the origin and give explicit x,y and z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a specific sta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x,y and z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line as the distance between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 design indicates tha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s required in the construction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idea of objects being constructed from other objects is pivotal to OO thinking. Otherwise classes remain a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aborate data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tructing a Lin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5848200"/>
            <a:ext cx="8280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se one class within another we mus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le &amp; p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le in the compile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280" y="6885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 must be declared before they can be used in other classes so the order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9640" y="1295280"/>
            <a:ext cx="4392720" cy="4757400"/>
            <a:chOff x="539640" y="1295280"/>
            <a:chExt cx="4392720" cy="4757400"/>
          </a:xfrm>
        </p:grpSpPr>
        <p:sp>
          <p:nvSpPr>
            <p:cNvPr id="115" name=""/>
            <p:cNvSpPr/>
            <p:nvPr/>
          </p:nvSpPr>
          <p:spPr>
            <a:xfrm>
              <a:off x="539640" y="1295280"/>
              <a:ext cx="4321440" cy="47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Line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(Point o, float x, float y, float z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(float x, float y, float z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(Point a, Point b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~Line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getXdi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getYdi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getZdir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the_origin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itsXdir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itsYdir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itsZdir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80000" y="134136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Line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46560" y="1268280"/>
            <a:ext cx="3746520" cy="3111480"/>
            <a:chOff x="5146560" y="1268280"/>
            <a:chExt cx="3746520" cy="3111480"/>
          </a:xfrm>
        </p:grpSpPr>
        <p:sp>
          <p:nvSpPr>
            <p:cNvPr id="118" name=""/>
            <p:cNvSpPr/>
            <p:nvPr/>
          </p:nvSpPr>
          <p:spPr>
            <a:xfrm>
              <a:off x="5146560" y="1268280"/>
              <a:ext cx="3529080" cy="3111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#include “Point.h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#include “Line.h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constructor for two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::Line(Point a, Point b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the_origin = 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tsXdir = b.getX() - a.getX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tsYdir = b.getY() - a.getY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tsZdir = b.getZ() - a.getZ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8720" y="12682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Lin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508720" y="3716280"/>
            <a:ext cx="2950920" cy="2288520"/>
            <a:chOff x="5508720" y="3716280"/>
            <a:chExt cx="2950920" cy="2288520"/>
          </a:xfrm>
        </p:grpSpPr>
        <p:sp>
          <p:nvSpPr>
            <p:cNvPr id="121" name=""/>
            <p:cNvSpPr/>
            <p:nvPr/>
          </p:nvSpPr>
          <p:spPr>
            <a:xfrm>
              <a:off x="5508720" y="3716280"/>
              <a:ext cx="2879640" cy="228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#include “Point.h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#include “Line.h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 a(1,0,1), b(3,2,6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Line l(a,b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88000" y="533700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Lin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nit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5075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never an object of a class is created, its constructor AND the constructors for all objects that belong to it are called. This is done before the class’s own constructor is called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 default, the constructors invoked are the default o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You can assign a data member to something specific inside the class’s constructor 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new point and then assign is to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onymous point obj &amp; assign straight to data m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4437000"/>
            <a:ext cx="4464000" cy="283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ctangle::Rectangl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LowerLeft(0,0,0)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LowerRight(1,0,0);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ul(0,1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UpperLeft = ul;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UpperRight = Point(1,1,0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4443480"/>
            <a:ext cx="2665440" cy="283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Rectang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LowerLef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LowerR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UpperL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itsUpperR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laisation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isation lists can be used to call a non-default constructor for an object belonging to a clas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n an object of that class 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faster as it avoids an extra assignmen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92308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objects in the initialisation list should be that in which they were declared (compiler will re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3033720"/>
            <a:ext cx="5256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ame::Name(input_arg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emVar1(init_expr),..,memVarN(init_ex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ate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3860640"/>
            <a:ext cx="554364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constructor with start an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Line::Line(Point o, float x, float y, float 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he_startPoint(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Xdir(x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Ydir(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Zdir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to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ointer can be used to point to an object as well as the built-in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member variables and functions are then  accessed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equivalent to dereferencing the pointer to get the object itself and the using the dot operator (see 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 enable objects to be passed by ‘reference’ to non-member and member functions =&gt; Allows the object to modified through a function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iciency of the program is increased if a large object is passed by reference rather than by value (as only the address is pass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 to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08720" y="1268280"/>
            <a:ext cx="31780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also use references with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have the same advantages, but without the need for th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an indirection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hy so we need poin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12840"/>
            <a:ext cx="5040360" cy="654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Dist(Point* pPoint) {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pPoint-&gt;distance();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in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equivalent to (*pPoint).di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Dist(Point&amp; rPoint) {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rPoint.distance()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no in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a(2,1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pointer to object of typ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b = &amp;a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ference to object of type Point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&amp; c = a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 = b-&gt;distance()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distance b: " &lt;&lt; dist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distance b: " &lt;&lt; getDist(b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distance c: " &lt;&lt; getDist(c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variables &amp; user-defined objects in the programs so far have been stored in an area of memory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537372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and effective method of managing memory. There are never any residual objects that remain on the stack at the end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35240" y="2421000"/>
            <a:ext cx="6549840" cy="2952720"/>
            <a:chOff x="1335240" y="2421000"/>
            <a:chExt cx="6549840" cy="2952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335240" y="2421000"/>
              <a:ext cx="654984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47640" y="5229360"/>
              <a:ext cx="4537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 of the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programs holding variables on the stack there are two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do not persist after the block they were declar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ck is a relatively small area of memory. Programs that have to deal with a number of large objects will encounter problems with memory size (it’s not infinite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variables are a possible solution to the first limitation. But it is generally bad practice to use global variables for anything else than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n area of computer memory capable of 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large objects that can still enforce the same access restrictions that the stack provi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p (or free store) is a large reserved area in computer memory able to store persist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n address (i.e. pointer) for the allocated memory on the free store you have to 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(or built-in type) af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iler how much memory to allocate to store the new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040" y="54165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for an object on the free store are accessed through the indirection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isation is done via the constructor form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789360"/>
            <a:ext cx="7848720" cy="177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* px = new int;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int on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py = new float(5);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float initilaised to 5 on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* par = new float[10];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rray of floats on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pA = new Point(1,2,1);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oint object on heap (used ear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x coord of A: " &lt;&lt; pA-&gt;getX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time of Objects on the He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383840"/>
            <a:ext cx="3745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created on the free store exist beyond scope of the block in which they’r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returned pointer to the object is located on the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es the object from a function the ptr to the object must be passed to that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ing the ptr on stack enables func interface to remain i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1395360"/>
            <a:ext cx="4680000" cy="61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getPoint(2,1,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b = getPoint2(3,4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x(a)= " &lt;&lt; a-&gt;getX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ok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x(b)= " &lt;&lt; b-&gt;getX()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getPoint(float x, float y, float z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object persists but ptr not passe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back to main, so we can’t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a = new Point(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getPoint2(float x, float y, float z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* b = new Point(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413000"/>
            <a:ext cx="7777080" cy="530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oint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float x, float y, float z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)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Point(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X(float x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Y(floa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Z(float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X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Z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Point anotherPo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X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memb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Class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659640" y="2349360"/>
            <a:ext cx="1657440" cy="1015920"/>
            <a:chOff x="6659640" y="2349360"/>
            <a:chExt cx="1657440" cy="1015920"/>
          </a:xfrm>
        </p:grpSpPr>
        <p:sp>
          <p:nvSpPr>
            <p:cNvPr id="47" name=""/>
            <p:cNvSpPr/>
            <p:nvPr/>
          </p:nvSpPr>
          <p:spPr>
            <a:xfrm>
              <a:off x="6659640" y="2349360"/>
              <a:ext cx="1584360" cy="1008000"/>
            </a:xfrm>
            <a:prstGeom prst="wedgeRoundRectCallout">
              <a:avLst>
                <a:gd name="adj1" fmla="val -72944"/>
                <a:gd name="adj2" fmla="val -291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32720" y="2349360"/>
              <a:ext cx="1584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a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se?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the allocated memory once the pointer runs out of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delegates the responsibility of allocating and freeing memory on the heap to the software develo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one of the most contentious issues surrounding C++. Other OO languages, such as Java, automatically de-allocate memory used on the 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use to free store. It is better to be aware of the traps and pitfalls associated with memory management now before you lose complete contro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llocated for an object on the heap has to be freed when the object is no longer needed or, at the latest, before the object goes out of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ory is freed by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bjects stored on the heap (declar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) must have a correspon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1700280"/>
            <a:ext cx="3744720" cy="52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getDistance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void getDistance(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Point* a = new Point(2,3,2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Point* b = new Point(2,6,-4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cout &lt;&lt; "dist a to b=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&lt;&lt; a-&gt;distance(*b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&lt;&lt; end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elete a;     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clean-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elete b;    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n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970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f a class has data members on the heap, the memory associated to them must be freed when an object of that class goes out of scop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done by placing delete statements in the class’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I don’t need to bother with that. The compiler doesn’t even warn me. Will it really affect the running of my program?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00720" y="1268280"/>
            <a:ext cx="4714560" cy="5854680"/>
            <a:chOff x="4500720" y="1268280"/>
            <a:chExt cx="4714560" cy="5854680"/>
          </a:xfrm>
        </p:grpSpPr>
        <p:sp>
          <p:nvSpPr>
            <p:cNvPr id="160" name=""/>
            <p:cNvSpPr/>
            <p:nvPr/>
          </p:nvSpPr>
          <p:spPr>
            <a:xfrm>
              <a:off x="4500720" y="1268280"/>
              <a:ext cx="4427280" cy="585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// constru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::Point(float x, float y, float z) {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value placed on he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tsX = new float(x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destructor: delete memory on he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int::~Point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delete 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Point::getX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000" spc="-1" strike="noStrike">
                  <a:solidFill>
                    <a:srgbClr val="333399"/>
                  </a:solidFill>
                  <a:latin typeface="High Tower Text"/>
                </a:rPr>
                <a:t>//deref ptr to get 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*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93080" y="4005360"/>
              <a:ext cx="1726920" cy="256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rivat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Y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* itsZ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16720" y="1268280"/>
              <a:ext cx="15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67640" y="605628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variable has been declared it has to be assigned a value before it can be used in a express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133720"/>
            <a:ext cx="525636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i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 = 7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iti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j = 7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clared &amp; initi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oint a;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.setX(7.0);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tedious init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076640"/>
            <a:ext cx="8351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objects are initialised by the use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an object of a class is created, its constructor is ca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he built-in types can also be initialised by the constructor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5805360"/>
            <a:ext cx="525636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j =7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normal init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j(7);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onstructor init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1120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ructor is a special public membe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has the same name as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turn type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no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185840" y="2924280"/>
            <a:ext cx="2665440" cy="1922760"/>
            <a:chOff x="1185840" y="2924280"/>
            <a:chExt cx="2665440" cy="1922760"/>
          </a:xfrm>
        </p:grpSpPr>
        <p:sp>
          <p:nvSpPr>
            <p:cNvPr id="57" name=""/>
            <p:cNvSpPr/>
            <p:nvPr/>
          </p:nvSpPr>
          <p:spPr>
            <a:xfrm>
              <a:off x="1185840" y="2924280"/>
              <a:ext cx="2160720" cy="192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class Name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Name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2560" y="443700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Name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fault constructor is provided by the compiler (only if you don’t provide any) but this is overwritten if a constructor is supplied in the class decl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219640" y="2924280"/>
            <a:ext cx="2952720" cy="1922760"/>
            <a:chOff x="5219640" y="2924280"/>
            <a:chExt cx="2952720" cy="1922760"/>
          </a:xfrm>
        </p:grpSpPr>
        <p:sp>
          <p:nvSpPr>
            <p:cNvPr id="61" name=""/>
            <p:cNvSpPr/>
            <p:nvPr/>
          </p:nvSpPr>
          <p:spPr>
            <a:xfrm>
              <a:off x="5219640" y="2924280"/>
              <a:ext cx="2737080" cy="192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Name::Name()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43640" y="44006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Name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1480"/>
            <a:ext cx="368316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ing a constructor enables the member data to be initialised when the class object is instanti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040" y="3889440"/>
            <a:ext cx="36212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are preferred to multiple accessor methods (“set” methods) if the member variables are initialised but never re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211640" y="1663560"/>
            <a:ext cx="4824360" cy="5152680"/>
            <a:chOff x="4211640" y="1663560"/>
            <a:chExt cx="4824360" cy="5152680"/>
          </a:xfrm>
        </p:grpSpPr>
        <p:grpSp>
          <p:nvGrpSpPr>
            <p:cNvPr id="67" name=""/>
            <p:cNvGrpSpPr/>
            <p:nvPr/>
          </p:nvGrpSpPr>
          <p:grpSpPr>
            <a:xfrm>
              <a:off x="4211640" y="1700280"/>
              <a:ext cx="4753080" cy="5115960"/>
              <a:chOff x="4211640" y="1700280"/>
              <a:chExt cx="4753080" cy="5115960"/>
            </a:xfrm>
          </p:grpSpPr>
          <p:sp>
            <p:nvSpPr>
              <p:cNvPr id="68" name=""/>
              <p:cNvSpPr/>
              <p:nvPr/>
            </p:nvSpPr>
            <p:spPr>
              <a:xfrm>
                <a:off x="4211640" y="1700280"/>
                <a:ext cx="4464000" cy="2504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333399"/>
                    </a:solidFill>
                    <a:latin typeface="High Tower Text"/>
                  </a:rPr>
                  <a:t>// point class declara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class Point {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public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Point(float x, float y, float z);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private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11640" y="4311720"/>
                <a:ext cx="4464000" cy="25045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333399"/>
                    </a:solidFill>
                    <a:latin typeface="High Tower Text"/>
                  </a:rPr>
                  <a:t>// point constructo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Point::Point(float x, float y, float z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{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itsX = x; itsY = y; itsZ = z;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27640" y="3043080"/>
                <a:ext cx="2664000" cy="1600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High Tower Text"/>
                  </a:rPr>
                  <a:t># include “Point.h”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int main() {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Point a(1,2,1);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High Tower Text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64360" y="609300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[Point.cpp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451640" y="1663560"/>
              <a:ext cx="15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6000" y="425592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 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610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ke all functions, constructors can b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verloade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They are distinguished by the number and type of input argu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use of different constructors allows member data to be initialised in multiple way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constructor with no arguments does not have to be called with empty parenthe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067280" y="3716280"/>
            <a:ext cx="4752360" cy="2973960"/>
            <a:chOff x="4067280" y="3716280"/>
            <a:chExt cx="4752360" cy="2973960"/>
          </a:xfrm>
        </p:grpSpPr>
        <p:sp>
          <p:nvSpPr>
            <p:cNvPr id="77" name=""/>
            <p:cNvSpPr/>
            <p:nvPr/>
          </p:nvSpPr>
          <p:spPr>
            <a:xfrm>
              <a:off x="4067280" y="3716280"/>
              <a:ext cx="4463640" cy="2973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point constructo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::Point(float x, float y, float z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tsX = x; itsY = y; itsZ = z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::Point()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tsX = 0; itsY = 0; itsZ = 0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9640" y="627228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67280" y="1341360"/>
            <a:ext cx="4824360" cy="2109960"/>
            <a:chOff x="4067280" y="1341360"/>
            <a:chExt cx="4824360" cy="2109960"/>
          </a:xfrm>
        </p:grpSpPr>
        <p:sp>
          <p:nvSpPr>
            <p:cNvPr id="80" name=""/>
            <p:cNvSpPr/>
            <p:nvPr/>
          </p:nvSpPr>
          <p:spPr>
            <a:xfrm>
              <a:off x="4067280" y="1341360"/>
              <a:ext cx="4464000" cy="210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point class declar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(float x, float y, float z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(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9080" y="134136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156360" y="2565360"/>
            <a:ext cx="2808360" cy="1576800"/>
            <a:chOff x="6156360" y="2565360"/>
            <a:chExt cx="2808360" cy="1576800"/>
          </a:xfrm>
        </p:grpSpPr>
        <p:sp>
          <p:nvSpPr>
            <p:cNvPr id="83" name=""/>
            <p:cNvSpPr/>
            <p:nvPr/>
          </p:nvSpPr>
          <p:spPr>
            <a:xfrm>
              <a:off x="6156360" y="2565360"/>
              <a:ext cx="2664000" cy="1533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High Tower Text"/>
                </a:rPr>
                <a:t># include “Point.h”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 a(1,2,1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 b;  </a:t>
              </a: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orig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64360" y="374328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ime a constructor is declared it is advisable to provide a destr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tructor also has the same name as the class but wit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l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~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00000" y="3103560"/>
            <a:ext cx="4103640" cy="2685960"/>
            <a:chOff x="900000" y="3103560"/>
            <a:chExt cx="4103640" cy="2685960"/>
          </a:xfrm>
        </p:grpSpPr>
        <p:sp>
          <p:nvSpPr>
            <p:cNvPr id="88" name=""/>
            <p:cNvSpPr/>
            <p:nvPr/>
          </p:nvSpPr>
          <p:spPr>
            <a:xfrm>
              <a:off x="900000" y="3103560"/>
              <a:ext cx="3745080" cy="268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point class declar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(float x, float y, float z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(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~Point(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1080" y="50101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932360" y="2637000"/>
            <a:ext cx="3887640" cy="681120"/>
            <a:chOff x="4932360" y="2637000"/>
            <a:chExt cx="3887640" cy="681120"/>
          </a:xfrm>
        </p:grpSpPr>
        <p:sp>
          <p:nvSpPr>
            <p:cNvPr id="91" name=""/>
            <p:cNvSpPr/>
            <p:nvPr/>
          </p:nvSpPr>
          <p:spPr>
            <a:xfrm>
              <a:off x="4932360" y="2637000"/>
              <a:ext cx="3745080" cy="66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point class declar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High Tower Text"/>
                </a:rPr>
                <a:t>Point::~Point() { 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37440" y="291924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932360" y="3429000"/>
            <a:ext cx="3816360" cy="2397960"/>
            <a:chOff x="4932360" y="3429000"/>
            <a:chExt cx="3816360" cy="2397960"/>
          </a:xfrm>
        </p:grpSpPr>
        <p:sp>
          <p:nvSpPr>
            <p:cNvPr id="94" name=""/>
            <p:cNvSpPr/>
            <p:nvPr/>
          </p:nvSpPr>
          <p:spPr>
            <a:xfrm>
              <a:off x="4932360" y="3429000"/>
              <a:ext cx="3745080" cy="239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f (i &gt; 1)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oint a(1,2,1)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  </a:t>
              </a: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out of scope so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   </a:t>
              </a: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destructor call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34160" y="3429000"/>
              <a:ext cx="20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460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destructor is called when the object goes out of scope or delete is called (see l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483552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variable declaration to indicate that the value will remain constant until it goes out of 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pointer declaration to indicate that the pointer will always refer to the same object until pointer goes out of 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membe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member function means that the member data can’t be modified by that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afeguard for both developer and user against future modifications to the memb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35640" y="1268280"/>
            <a:ext cx="3600360" cy="3261960"/>
            <a:chOff x="5435640" y="1268280"/>
            <a:chExt cx="3600360" cy="3261960"/>
          </a:xfrm>
        </p:grpSpPr>
        <p:sp>
          <p:nvSpPr>
            <p:cNvPr id="100" name=""/>
            <p:cNvSpPr/>
            <p:nvPr/>
          </p:nvSpPr>
          <p:spPr>
            <a:xfrm>
              <a:off x="5435640" y="1268280"/>
              <a:ext cx="3311640" cy="3261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const double PI = 3.14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double* const px = &amp;x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declare point clas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float getX() const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4720" y="41115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435640" y="4618080"/>
            <a:ext cx="3313080" cy="2109960"/>
            <a:chOff x="5435640" y="4618080"/>
            <a:chExt cx="3313080" cy="2109960"/>
          </a:xfrm>
        </p:grpSpPr>
        <p:sp>
          <p:nvSpPr>
            <p:cNvPr id="103" name=""/>
            <p:cNvSpPr/>
            <p:nvPr/>
          </p:nvSpPr>
          <p:spPr>
            <a:xfrm>
              <a:off x="5435640" y="4618080"/>
              <a:ext cx="3313080" cy="2109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get x coordin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float Point::getX() const 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itsX++; </a:t>
              </a:r>
              <a:r>
                <a:rPr b="0" lang="en-US" sz="2100" spc="-1" strike="noStrike">
                  <a:solidFill>
                    <a:srgbClr val="333399"/>
                  </a:solidFill>
                  <a:latin typeface="High Tower Text"/>
                </a:rPr>
                <a:t>// erro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return itsX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4360" y="62722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line 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475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to have some class methods only a few statements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of these functions can be moved to the interface (header) without loss of gener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tions that are declared and defined in the same statement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484280"/>
            <a:ext cx="417672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clare poi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float x, float y, float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Po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X(float x) {itsX =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Y(float y) {itsY = y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Z(float z) {itsZ = z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X() const {return its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Y() const {return itsY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Z() const {return itsZ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Point anotherPo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661000"/>
            <a:ext cx="8351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functions inline increases the program efficiency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’re called frequently. Efficiency is not increased 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function is made i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09:17:45Z</dcterms:created>
  <dc:creator>sarah</dc:creator>
  <dc:description/>
  <dc:language>en-US</dc:language>
  <cp:lastModifiedBy>Administrator</cp:lastModifiedBy>
  <dcterms:modified xsi:type="dcterms:W3CDTF">2007-08-24T12:44:09Z</dcterms:modified>
  <cp:revision>40</cp:revision>
  <dc:subject/>
  <dc:title>Slide 1</dc:title>
</cp:coreProperties>
</file>