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58C-59C6-4293-81B7-6B9877DF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831-66B0-4D4C-A082-AA9473D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F29-9853-4F87-B39D-60FB7865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9B6-3BE2-4538-A940-ABF6C7F9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8C1-ACC5-4536-AB20-837A2BE4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7E0-EF0F-4A08-B968-F173E7E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97C-860B-4E5A-A690-568A959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D27-EDA4-47FC-A679-42236120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B94-43F8-4366-A336-4C076565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D16-C0FF-483B-9F65-B1B70A7B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62B-7AAD-4436-BEDA-359D6BA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D1C-BDA0-4CA7-A48D-AFDB4628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F6F3-91FA-473F-9989-0655663B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earchsmb.techtarget.com/sDefinition/0,,sid44_gci212803,00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371600" y="2924280"/>
            <a:ext cx="6400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Three: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424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only want to use the enum to refer to cons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don't plan to use the type to declare variables, func arguments, etc) you can us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nam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071720" y="1490760"/>
            <a:ext cx="7000560" cy="328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enum DaysOfWeek {mon=1,tue,wed,thr,fri,sat,sun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Enter day (mon=1 to sun=7)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d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in &gt;&gt; d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day == thr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C++ Lecture at 11am!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195640" y="6165720"/>
            <a:ext cx="446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enum {name1, name2, .. nameN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erations for a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menu routine, enumerations can be used in the switch statement to clarify the cas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59280" y="2133720"/>
            <a:ext cx="4500360" cy="490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enum Menu {mean=1,stdev=2,order=3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witch (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std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o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54200" y="2276640"/>
            <a:ext cx="2449440" cy="43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witch (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276720" y="2852640"/>
            <a:ext cx="576000" cy="3024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d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ometimes uncertain which type will be needed for a set of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76720" y="1306440"/>
            <a:ext cx="2665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typedef name 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92360" y="2349360"/>
            <a:ext cx="5040360" cy="517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typedef long double Numb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calculate combi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Number triesfct 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or (int i = 1; i&lt;=tries; i++) triesfct *= 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Number winsfct = 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or (int i = 1; i&lt;=wins; i++) winsfct *= 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95280" y="2874960"/>
            <a:ext cx="295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ing the value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al calculation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be useful up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e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 redefini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ab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an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babilit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dentifying function use cases, look for reusable chunks of code that exist to calculate a sing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to calculate Binomial and Poisson values can be added to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3068640"/>
            <a:ext cx="7201080" cy="387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binomial(float prob, int wins, int trie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alculate combinations and then binom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umber triesfct = factorial(tries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function calling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umber winsfct = factorial(wi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Number lossesfct = factorial(tries-wi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comb = triesfct / (winsfct * lossesf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(pow(prob,wins) * pow(1-prob,tries-wins) * com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an perform calculations within the retur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sson(int r, float mea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(exp(-mean) * pow(mean,r))/factorial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the probabilit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6040" y="5589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at the probability calculations have been taken outs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functions have the potential to be called from other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42920" y="1446120"/>
            <a:ext cx="7201080" cy="424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get probability, successes and 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get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binom = binomial(prob,wins,trie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Binomial probability: " &lt;&lt; binom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get r and m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get poi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Poisson probability: " &lt;&lt; poisson(r,mean)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58728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[prob3.cp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questions abou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pend the rest of the lecture and the next lecture  answering the following questions concerning the use of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y functions be used by other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upply a default value for a function argu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function call itse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have to write separate functions for each type, even though the function will be exactly the s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 to call a function that modifies the input argu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return more than one value from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value of a function variable be made constant throughout the entire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functio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6227640" y="981000"/>
            <a:ext cx="28432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-proces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es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vant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lation unit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6600"/>
                </a:solidFill>
                <a:latin typeface="Arial"/>
              </a:rPr>
              <a:t>Translation un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7"/>
          <p:cNvGrpSpPr/>
          <p:nvPr/>
        </p:nvGrpSpPr>
        <p:grpSpPr>
          <a:xfrm>
            <a:off x="611280" y="1106640"/>
            <a:ext cx="8424720" cy="5694480"/>
            <a:chOff x="611280" y="1106640"/>
            <a:chExt cx="8424720" cy="5694480"/>
          </a:xfrm>
        </p:grpSpPr>
        <p:grpSp>
          <p:nvGrpSpPr>
            <p:cNvPr id="108" name="Group 35"/>
            <p:cNvGrpSpPr/>
            <p:nvPr/>
          </p:nvGrpSpPr>
          <p:grpSpPr>
            <a:xfrm>
              <a:off x="611280" y="1106640"/>
              <a:ext cx="8424720" cy="5694480"/>
              <a:chOff x="611280" y="1106640"/>
              <a:chExt cx="8424720" cy="5694480"/>
            </a:xfrm>
          </p:grpSpPr>
          <p:grpSp>
            <p:nvGrpSpPr>
              <p:cNvPr id="109" name="Group 29"/>
              <p:cNvGrpSpPr/>
              <p:nvPr/>
            </p:nvGrpSpPr>
            <p:grpSpPr>
              <a:xfrm>
                <a:off x="611280" y="1106640"/>
                <a:ext cx="8424720" cy="5694480"/>
                <a:chOff x="611280" y="1106640"/>
                <a:chExt cx="8424720" cy="5694480"/>
              </a:xfrm>
            </p:grpSpPr>
            <p:grpSp>
              <p:nvGrpSpPr>
                <p:cNvPr id="110" name="Group 27"/>
                <p:cNvGrpSpPr/>
                <p:nvPr/>
              </p:nvGrpSpPr>
              <p:grpSpPr>
                <a:xfrm>
                  <a:off x="611280" y="1106640"/>
                  <a:ext cx="8424720" cy="5694480"/>
                  <a:chOff x="611280" y="1106640"/>
                  <a:chExt cx="8424720" cy="5694480"/>
                </a:xfrm>
              </p:grpSpPr>
              <p:grpSp>
                <p:nvGrpSpPr>
                  <p:cNvPr id="111" name="Group 24"/>
                  <p:cNvGrpSpPr/>
                  <p:nvPr/>
                </p:nvGrpSpPr>
                <p:grpSpPr>
                  <a:xfrm>
                    <a:off x="6659640" y="5126040"/>
                    <a:ext cx="2376360" cy="1542600"/>
                    <a:chOff x="6659640" y="5126040"/>
                    <a:chExt cx="2376360" cy="1542600"/>
                  </a:xfrm>
                </p:grpSpPr>
                <p:sp>
                  <p:nvSpPr>
                    <p:cNvPr id="112" name="Text Box 7"/>
                    <p:cNvSpPr/>
                    <p:nvPr/>
                  </p:nvSpPr>
                  <p:spPr>
                    <a:xfrm>
                      <a:off x="6659640" y="5126040"/>
                      <a:ext cx="2376360" cy="67896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func decla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func defin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Text Box 8"/>
                    <p:cNvSpPr/>
                    <p:nvPr/>
                  </p:nvSpPr>
                  <p:spPr>
                    <a:xfrm>
                      <a:off x="6659640" y="5989680"/>
                      <a:ext cx="2376360" cy="67896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func decla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 main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23"/>
                  <p:cNvGrpSpPr/>
                  <p:nvPr/>
                </p:nvGrpSpPr>
                <p:grpSpPr>
                  <a:xfrm>
                    <a:off x="611280" y="1106640"/>
                    <a:ext cx="6121440" cy="5694480"/>
                    <a:chOff x="611280" y="1106640"/>
                    <a:chExt cx="6121440" cy="5694480"/>
                  </a:xfrm>
                </p:grpSpPr>
                <p:grpSp>
                  <p:nvGrpSpPr>
                    <p:cNvPr id="115" name="Group 13"/>
                    <p:cNvGrpSpPr/>
                    <p:nvPr/>
                  </p:nvGrpSpPr>
                  <p:grpSpPr>
                    <a:xfrm>
                      <a:off x="611280" y="1106640"/>
                      <a:ext cx="6121440" cy="960120"/>
                      <a:chOff x="611280" y="1106640"/>
                      <a:chExt cx="6121440" cy="960120"/>
                    </a:xfrm>
                  </p:grpSpPr>
                  <p:sp>
                    <p:nvSpPr>
                      <p:cNvPr id="116" name="Text Box 5"/>
                      <p:cNvSpPr/>
                      <p:nvPr/>
                    </p:nvSpPr>
                    <p:spPr>
                      <a:xfrm>
                        <a:off x="611280" y="1106640"/>
                        <a:ext cx="5616360" cy="96012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// function </a:t>
                        </a:r>
                        <a:r>
                          <a:rPr b="1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declaration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float binomial(float prob, int wins, int tries);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float poisson(int r, float mean);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Text Box 10"/>
                      <p:cNvSpPr/>
                      <p:nvPr/>
                    </p:nvSpPr>
                    <p:spPr>
                      <a:xfrm>
                        <a:off x="4932360" y="1125360"/>
                        <a:ext cx="180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[problib.h]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8" name="Group 12"/>
                    <p:cNvGrpSpPr/>
                    <p:nvPr/>
                  </p:nvGrpSpPr>
                  <p:grpSpPr>
                    <a:xfrm>
                      <a:off x="611280" y="2133720"/>
                      <a:ext cx="5832360" cy="3192840"/>
                      <a:chOff x="611280" y="2133720"/>
                      <a:chExt cx="5832360" cy="3192840"/>
                    </a:xfrm>
                  </p:grpSpPr>
                  <p:sp>
                    <p:nvSpPr>
                      <p:cNvPr id="119" name="Text Box 6"/>
                      <p:cNvSpPr/>
                      <p:nvPr/>
                    </p:nvSpPr>
                    <p:spPr>
                      <a:xfrm>
                        <a:off x="611280" y="2133720"/>
                        <a:ext cx="5616360" cy="319284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#include “problib.h”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// function </a:t>
                        </a:r>
                        <a:r>
                          <a:rPr b="1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definition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float binomial(float prob, int wins, int tries) {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   </a:t>
                        </a:r>
                        <a:r>
                          <a:rPr b="0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// calculate combination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   </a:t>
                        </a:r>
                        <a:r>
                          <a:rPr b="0" lang="en-US" sz="2000" spc="-1" strike="noStrike">
                            <a:solidFill>
                              <a:srgbClr val="333399"/>
                            </a:solidFill>
                            <a:latin typeface="High Tower Text"/>
                          </a:rPr>
                          <a:t>// calculate binomial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}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float poisson(int r, float mean) {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   </a:t>
                        </a: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return (exp(-mean) * pow(mean,r))/factorial(r);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}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Text Box 11"/>
                      <p:cNvSpPr/>
                      <p:nvPr/>
                    </p:nvSpPr>
                    <p:spPr>
                      <a:xfrm>
                        <a:off x="4643280" y="2205000"/>
                        <a:ext cx="180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[problib.cpp]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" name="Group 15"/>
                    <p:cNvGrpSpPr/>
                    <p:nvPr/>
                  </p:nvGrpSpPr>
                  <p:grpSpPr>
                    <a:xfrm>
                      <a:off x="611280" y="5157720"/>
                      <a:ext cx="3600360" cy="1643400"/>
                      <a:chOff x="611280" y="5157720"/>
                      <a:chExt cx="3600360" cy="1643400"/>
                    </a:xfrm>
                  </p:grpSpPr>
                  <p:sp>
                    <p:nvSpPr>
                      <p:cNvPr id="122" name="Text Box 4"/>
                      <p:cNvSpPr/>
                      <p:nvPr/>
                    </p:nvSpPr>
                    <p:spPr>
                      <a:xfrm>
                        <a:off x="611280" y="5157720"/>
                        <a:ext cx="3166920" cy="164340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#include “problib.h”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// main program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int main() {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   </a:t>
                        </a: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: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6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High Tower Text"/>
                          </a:rPr>
                          <a:t>}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" name="Text Box 14"/>
                      <p:cNvSpPr/>
                      <p:nvPr/>
                    </p:nvSpPr>
                    <p:spPr>
                      <a:xfrm>
                        <a:off x="2411280" y="6375240"/>
                        <a:ext cx="18003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[prob.cpp]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4" name="Group 19"/>
                    <p:cNvGrpSpPr/>
                    <p:nvPr/>
                  </p:nvGrpSpPr>
                  <p:grpSpPr>
                    <a:xfrm>
                      <a:off x="4354560" y="5373720"/>
                      <a:ext cx="1873080" cy="1368360"/>
                      <a:chOff x="4354560" y="5373720"/>
                      <a:chExt cx="1873080" cy="1368360"/>
                    </a:xfrm>
                  </p:grpSpPr>
                  <p:sp>
                    <p:nvSpPr>
                      <p:cNvPr id="125" name="Text Box 9"/>
                      <p:cNvSpPr/>
                      <p:nvPr/>
                    </p:nvSpPr>
                    <p:spPr>
                      <a:xfrm>
                        <a:off x="4643280" y="5661000"/>
                        <a:ext cx="1440000" cy="862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++ pre-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rocessor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" name="Oval 18"/>
                      <p:cNvSpPr/>
                      <p:nvPr/>
                    </p:nvSpPr>
                    <p:spPr>
                      <a:xfrm>
                        <a:off x="4354560" y="5373720"/>
                        <a:ext cx="1873080" cy="13683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7" name="Line 21"/>
                    <p:cNvSpPr/>
                    <p:nvPr/>
                  </p:nvSpPr>
                  <p:spPr>
                    <a:xfrm>
                      <a:off x="3780000" y="6021360"/>
                      <a:ext cx="57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2"/>
                    <p:cNvSpPr/>
                    <p:nvPr/>
                  </p:nvSpPr>
                  <p:spPr>
                    <a:xfrm>
                      <a:off x="5219640" y="5084640"/>
                      <a:ext cx="0" cy="28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" name="Line 25"/>
                  <p:cNvSpPr/>
                  <p:nvPr/>
                </p:nvSpPr>
                <p:spPr>
                  <a:xfrm flipV="1">
                    <a:off x="6227640" y="5444640"/>
                    <a:ext cx="432000" cy="505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6"/>
                  <p:cNvSpPr/>
                  <p:nvPr/>
                </p:nvSpPr>
                <p:spPr>
                  <a:xfrm>
                    <a:off x="6227640" y="5950080"/>
                    <a:ext cx="432000" cy="504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Line 28"/>
                <p:cNvSpPr/>
                <p:nvPr/>
              </p:nvSpPr>
              <p:spPr>
                <a:xfrm>
                  <a:off x="6227640" y="1557360"/>
                  <a:ext cx="14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30"/>
              <p:cNvSpPr/>
              <p:nvPr/>
            </p:nvSpPr>
            <p:spPr>
              <a:xfrm>
                <a:off x="6372360" y="1557360"/>
                <a:ext cx="0" cy="36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36"/>
            <p:cNvSpPr/>
            <p:nvPr/>
          </p:nvSpPr>
          <p:spPr>
            <a:xfrm flipH="1">
              <a:off x="5940360" y="515772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++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a C++ program has source code distributed across multiple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ful to separate source code larger than 500+ lines into sepa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ile code distributed across multiple files include all the translation units in the compilation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3440" y="4508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++ -Wall –o prob.exe prob.cpp problib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68360" y="5419800"/>
            <a:ext cx="849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will not compile unless the translation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all the necessary functions are incul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ften useful to supply a default value for a function arg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is entered in the function prot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1268280"/>
            <a:ext cx="8496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unction_identifer (argument1 = value1, .. ,argumentN = val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71640" y="3068640"/>
            <a:ext cx="7129440" cy="355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getAngle(double vect1[],double vect2[],int radorDeg =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getArea(double PI = 3.14,double radiu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angle = getAngle(vect1,vect2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angle in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angle = getAngle(vect1,vect2,2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angle in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area of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Area1 = getArea(3.14157,3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ouble Area2 = getArea(,3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68360" y="602136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function takes multiple arguments it is not possible to have a default value for the first arg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routines are a powerful and elegant tool in programm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68360" y="548784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functions are commonly used in computing mathematical algorithms (factorials, series) and in manipulating large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643280" y="2421000"/>
            <a:ext cx="4032360" cy="30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umber factorial(int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n &gt;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(n * factorial(n-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function call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12720" y="2792520"/>
            <a:ext cx="352764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Number factorial(int 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fa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1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act *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fa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211640" y="2852640"/>
            <a:ext cx="358920" cy="2160720"/>
          </a:xfrm>
          <a:prstGeom prst="rightArrow">
            <a:avLst>
              <a:gd name="adj1" fmla="val 50037"/>
              <a:gd name="adj2" fmla="val 46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Binomial and Poisson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question 3(b) from Tutorial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9"/>
          <p:cNvGrpSpPr/>
          <p:nvPr/>
        </p:nvGrpSpPr>
        <p:grpSpPr>
          <a:xfrm>
            <a:off x="1547640" y="2070000"/>
            <a:ext cx="7056720" cy="4489560"/>
            <a:chOff x="1547640" y="2070000"/>
            <a:chExt cx="7056720" cy="4489560"/>
          </a:xfrm>
        </p:grpSpPr>
        <p:grpSp>
          <p:nvGrpSpPr>
            <p:cNvPr id="47" name="Group 7"/>
            <p:cNvGrpSpPr/>
            <p:nvPr/>
          </p:nvGrpSpPr>
          <p:grpSpPr>
            <a:xfrm>
              <a:off x="1547640" y="2070000"/>
              <a:ext cx="7056720" cy="4489560"/>
              <a:chOff x="1547640" y="2070000"/>
              <a:chExt cx="7056720" cy="4489560"/>
            </a:xfrm>
          </p:grpSpPr>
          <p:pic>
            <p:nvPicPr>
              <p:cNvPr id="4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5800" y="2070000"/>
                <a:ext cx="7018560" cy="44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Rectangle 6"/>
              <p:cNvSpPr/>
              <p:nvPr/>
            </p:nvSpPr>
            <p:spPr>
              <a:xfrm>
                <a:off x="1547640" y="4581360"/>
                <a:ext cx="3095640" cy="187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8"/>
            <p:cNvSpPr/>
            <p:nvPr/>
          </p:nvSpPr>
          <p:spPr>
            <a:xfrm>
              <a:off x="4067280" y="4437000"/>
              <a:ext cx="136836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4"/>
          <p:cNvSpPr/>
          <p:nvPr/>
        </p:nvSpPr>
        <p:spPr>
          <a:xfrm>
            <a:off x="468360" y="4581360"/>
            <a:ext cx="4464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could be extended to include other probability distribu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the Poisson distribu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prob1.cpp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function argument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forbids calling a function with different input and return types than declared in the function prot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59500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ems necessary to declare &amp; define separate funcs to accept input and return values of differen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050920" y="2205000"/>
            <a:ext cx="5185080" cy="431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onversion(int celsiu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Temperature (C)?“ &lt;&lt; end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in &gt;&gt;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fahr = conversion(celsiu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error: float returned but assigned to 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func converts celsius into fahrenh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onversion(int celsius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return (int) (((9.0/5.0) * celsius) + 3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function argument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_con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_con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dded to the code to account for the two differen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908000" y="2116080"/>
            <a:ext cx="5832720" cy="521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i_conversion(int celsius);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return 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f_conversion(float celsius);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return 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precis == 2) {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what precision i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Temperature (C)?\n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in &gt;&gt;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fahr = f_conversion(celsiu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Temperature (C)?\n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in &gt;&gt; celsiu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fahr = i_conversion(celsiu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is distinct if the function name OR the number and type of arguments is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836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separate conversion functions have to be defined, these functions have the same identifier. This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emplates allow the use of the same func for multiple types (see lat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2133720"/>
            <a:ext cx="7561080" cy="375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conversion(int celsius);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same identifier but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conversion(float celsius)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argument and retur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celsi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fahr = conversion(celsius);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celsius is a float so float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version of function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functions convert celsius into fahr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conversion(int celsius) { return (int) (((9.0/5.0) * celsius) + 32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conversion(float celsius) { return (((9.0/5.0) * celsius) + 32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839880" y="2924280"/>
            <a:ext cx="7477200" cy="2125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onversion 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1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will use type conversion routines if there is no exact type m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5280" y="13111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e: You don’t really have to write a separat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ach input and routine type, but it’s good pract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8360" y="4869000"/>
            <a:ext cx="82296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routine will work here but do not rely on this method to convert all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able type is not just a label to indicate the precision of a value. In general, a type is much more than a sing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verloading is not just used for grouping identical functions. Overloading can be used when two functions have a simila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47640" y="2421000"/>
            <a:ext cx="6337440" cy="405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robdist(float prob, int wins, int tri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robdist(int r, float mea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binom = probdist(prob,wins,tries);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binom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oisson = probdist(r,mean);  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get p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the func to call depends only on input 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robdist(float prob, int wins, int tries)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probdist(int r, float mean)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68360" y="5634000"/>
            <a:ext cx="82296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example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morphism!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 the ability to implement a function in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bject-oriented programming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from the Greek meaning ‘having multiple forms’) is the characteristic of being able to assign a different meaning or usage to something in different contexts - specifically, to allow an entity such as a variable, a function, or an object to have more than one form. There are several different kinds of polymorphis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archsmb.techtarget.com/sDefinition/0,,sid44_gci212803,0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wap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4259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ping the values in the function will have no effect on the variable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function in this way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ng by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act, the object (variable) within the funtion is actuall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he original (just has the same lab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want to write a function that takes two integers and transposes their valu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716360" y="1974960"/>
            <a:ext cx="4103640" cy="569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x = 2, y = 5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swap(x,y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void swap(int x, int y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333399"/>
                </a:solidFill>
                <a:latin typeface="High Tower Text"/>
              </a:rPr>
              <a:t>//not same x and y (copies)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int tmp = y; y = x; x = tmp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cout &lt;&lt; x &lt;&lt; "," &lt;&lt; y &lt;&lt; end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return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8099280" y="5611680"/>
            <a:ext cx="649440" cy="120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623736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there an alternative method that allows the modification of the input vari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391840"/>
            <a:ext cx="8435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ove statement the mathematical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ommon mathematical applications are not implicit in the C++ language; they’re in the math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-processor comm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&lt;cmath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be included at the top of the program to us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includes other useful math expressions, such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s/fa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solute value of integer/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/sin/t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g expressions (+ inverse acos/asin/at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/log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/base-10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down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58920" y="1262160"/>
            <a:ext cx="6481800" cy="138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// calculate poiss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poisson = (exp(-mean) * pow(mean,r))/f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64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has to be declared before it is called.  This is also known as the functions prototp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508644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declaration acts as a contract between the author and the user and a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mplementation of that decl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s in C++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ng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58920" y="1233360"/>
            <a:ext cx="6481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_type function_identifer (argument_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778120"/>
            <a:ext cx="7634520" cy="255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double sin (double x);  </a:t>
            </a:r>
            <a:r>
              <a:rPr b="0" lang="fr-FR" sz="2000" spc="-1" strike="noStrike">
                <a:solidFill>
                  <a:srgbClr val="333399"/>
                </a:solidFill>
                <a:latin typeface="High Tower Text"/>
              </a:rPr>
              <a:t>//declaration before main (in math.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double pi = 3.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double y = sin(pi);  </a:t>
            </a:r>
            <a:r>
              <a:rPr b="0" lang="fr-FR" sz="2000" spc="-1" strike="noStrike">
                <a:solidFill>
                  <a:srgbClr val="333399"/>
                </a:solidFill>
                <a:latin typeface="High Tower Text"/>
              </a:rPr>
              <a:t>//variable name need not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igh Tower Text"/>
              </a:rPr>
              <a:t>}                                 </a:t>
            </a:r>
            <a:r>
              <a:rPr b="0" lang="fr-FR" sz="2000" spc="-1" strike="noStrike">
                <a:solidFill>
                  <a:srgbClr val="333399"/>
                </a:solidFill>
                <a:latin typeface="High Tower Text"/>
              </a:rPr>
              <a:t>//return value assigned to variable of sam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delegate work outside the mai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a function use case, looked for a repeated sequence of statements that share some form of comm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care how the work is done, I’m only interested in return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627280" y="3392640"/>
            <a:ext cx="5761080" cy="361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uble triesf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1; i&lt;=tries; i++) triesfct *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uble winsf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1; i&lt;=wins; i++) winsfct *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losses = tries - wi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uble lossesfc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1; i&lt;=losses; i++) lossesfct *=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comb = triesfct / (winsfct * lossesfc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539640" y="5013360"/>
            <a:ext cx="2016360" cy="1511280"/>
            <a:chOff x="539640" y="5013360"/>
            <a:chExt cx="2016360" cy="1511280"/>
          </a:xfrm>
        </p:grpSpPr>
        <p:pic>
          <p:nvPicPr>
            <p:cNvPr id="64" name="Picture 5" descr=""/>
            <p:cNvPicPr/>
            <p:nvPr/>
          </p:nvPicPr>
          <p:blipFill>
            <a:blip r:embed="rId1"/>
            <a:stretch/>
          </p:blipFill>
          <p:spPr>
            <a:xfrm>
              <a:off x="611280" y="5154480"/>
              <a:ext cx="187308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"/>
            <p:cNvSpPr/>
            <p:nvPr/>
          </p:nvSpPr>
          <p:spPr>
            <a:xfrm>
              <a:off x="539640" y="5013360"/>
              <a:ext cx="2016360" cy="1511280"/>
            </a:xfrm>
            <a:prstGeom prst="rect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9"/>
          <p:cNvSpPr/>
          <p:nvPr/>
        </p:nvSpPr>
        <p:spPr>
          <a:xfrm>
            <a:off x="468360" y="3870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ator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factori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746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n! function  can be added to the program (this is needed 3 times from the main for the combinator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type ‘Number’ is an example of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de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ee l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prob2.cp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233360"/>
            <a:ext cx="5327640" cy="599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function prototype (outside mai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ouble factorial(int n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calculate combin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Number triesfct = factorial(trie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Number winsfct = factorial(win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Number lossesfct = factorial(tries-win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float comb = triesfct / (winsfct * lossesfct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double factorial(int n)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int fact = 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for (int i = 1; i&lt;=n; i++) fact *= 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return fac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12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evaluates an expression and executes a set of statements depending upon i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the express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tatement must be of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 does not match any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included at the end of each case otherwise the next statement will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867280" y="1106640"/>
            <a:ext cx="2808360" cy="564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witch (expressio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value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value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atement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valu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statements for a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umber of menu options will increase then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able to us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instead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00000" y="2852640"/>
            <a:ext cx="2951280" cy="300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request ==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if (request =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if (request == 3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722920" y="2421000"/>
            <a:ext cx="2449440" cy="43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witch (reque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500720" y="2852640"/>
            <a:ext cx="576000" cy="3024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95280" y="5950080"/>
            <a:ext cx="5040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ments shouldn’t be t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code looses readabil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large enough menu system, it can be difficult to recall the correspondence between the menu options and the routines they refer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is probl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 which map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to a user defined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alues are not explicitly defin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then the first argument will be assigned 0, the second 1 and so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50920" y="1233360"/>
            <a:ext cx="8675640" cy="138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enum label {name1 = value1, name2 = value2, .. nameN = value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enum label {name1, name2, .. nameN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52:49Z</dcterms:created>
  <dc:creator>sarah</dc:creator>
  <dc:description/>
  <dc:language>en-US</dc:language>
  <cp:lastModifiedBy>gwilliam</cp:lastModifiedBy>
  <dcterms:modified xsi:type="dcterms:W3CDTF">2008-09-26T09:13:22Z</dcterms:modified>
  <cp:revision>50</cp:revision>
  <dc:subject/>
  <dc:title>Slide 1</dc:title>
</cp:coreProperties>
</file>