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89C-EE89-420B-94D6-8CCE61D1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C0FE-6E50-4F95-9E35-1E4BD22C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8E6-7D2D-41FB-A085-BD091945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906-BC2F-45BD-954E-407BEA1C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6A59-820C-4361-BF69-692E46CF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1415-4D22-4BFA-B72C-E9062086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29CE-BCDC-4B68-A430-4FF605C9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F15-D01A-41F7-97E5-CCB5E3AC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865-21F7-401C-B414-4FC32D06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C9E7-0A8D-41C7-8C2C-14CBF5D8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120F-63DF-412B-ADB9-F796010B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70E1-3936-444D-979B-1744A66A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8AD8-433E-47C5-AD81-D6CF2FA49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william@hep.ph.liv.ac.uk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ntroduction to Programming using C+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2924280"/>
            <a:ext cx="684216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cture Four: Pointers &amp;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4581360"/>
            <a:ext cx="662616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arl Gwilli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High Tower Text"/>
                <a:hlinkClick r:id="rId1"/>
              </a:rPr>
              <a:t>gwilliam@hep.ph.liv.ac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http://hep.ph.liv.ac.uk/~gwilliam/cpp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inters and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++, pointers and arrays are inextricably lin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494172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 arra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[]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s as a pointer to the first element in the array (i.e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[0]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5910120"/>
            <a:ext cx="5688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x[5] = {1,2,3,4,5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“first element of x: “ &lt;&lt; *x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93880" y="2149560"/>
            <a:ext cx="74944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er arithme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elements in the array can be accessed by applying an offset value to the poi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869000"/>
            <a:ext cx="822960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y you have to careful with arrays! There is no error if you access an address outside of the memory allocated to the arr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rite a value to this address you could be overwriting memory used by the operating syste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2092320"/>
            <a:ext cx="36716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*x is equivalent to x[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*(x+i) is equivalent to x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3162240"/>
            <a:ext cx="7200720" cy="26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x[5] = {1,2,3,4,5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“first element of x: “ &lt;&lt; *x &lt;&lt; endl;      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x[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“third element of x: “ &lt;&lt; *(x+2) &lt;&lt; endl;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x[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“sixth element of x: “ &lt;&lt; *(x+5) &lt;&lt; endl;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x[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54560" y="2637000"/>
            <a:ext cx="252108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element of x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element of x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element of x: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930920" y="1989000"/>
            <a:ext cx="3744720" cy="504720"/>
            <a:chOff x="4930920" y="1989000"/>
            <a:chExt cx="3744720" cy="504720"/>
          </a:xfrm>
        </p:grpSpPr>
        <p:sp>
          <p:nvSpPr>
            <p:cNvPr id="95" name=""/>
            <p:cNvSpPr/>
            <p:nvPr/>
          </p:nvSpPr>
          <p:spPr>
            <a:xfrm>
              <a:off x="4930920" y="1989000"/>
              <a:ext cx="3744720" cy="504720"/>
            </a:xfrm>
            <a:prstGeom prst="wedgeRoundRectCallout">
              <a:avLst>
                <a:gd name="adj1" fmla="val -53689"/>
                <a:gd name="adj2" fmla="val 83962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03640" y="2062080"/>
              <a:ext cx="36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ust dereference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fter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cr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er arithme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ternative array notation can be introduced into the sorting algorithm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2276640"/>
            <a:ext cx="3889440" cy="344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// bubble sort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or (int i = 0; i &lt; (size - 1)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or (int j = 0; j &lt; (size - 1); j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f (sample[j] &gt; sample[j+1]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swap = sample[j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ample[j] = sample[j+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ample[j+1] = swa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3592440"/>
            <a:ext cx="4824360" cy="344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// bubble sort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or (int i = 0; i &lt; (size - 1)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or (int j = 0; j &lt; (size - 1); j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f ( *(sample + j) &gt; *(sample + j+1)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swap = *(sample + j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*(sample + j) = *(sample + j+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*(sample + j+1) = swa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551664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(x++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x)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716360" y="2707920"/>
            <a:ext cx="3168720" cy="649440"/>
          </a:xfrm>
          <a:custGeom>
            <a:avLst/>
            <a:gdLst>
              <a:gd name="textAreaLeft" fmla="*/ 1056240 w 3168720"/>
              <a:gd name="textAreaRight" fmla="*/ 2714040 w 3168720"/>
              <a:gd name="textAreaTop" fmla="*/ 374040 h 649440"/>
              <a:gd name="textAreaBottom" fmla="*/ 5562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turning pointers from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, there has been a restriction of one return value per function call. What if an array needs to be retur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inter is a single object that can be used to indicate the first element in an arr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inter to an array can be returned from the function. The array can then be accessed through the poi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3789360"/>
            <a:ext cx="3097440" cy="33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* x = getarra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* getarray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* x =new int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x[0] = 1;  x[1]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array conv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to pointer to float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return x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95640" y="3789360"/>
            <a:ext cx="4392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’t create the array normally as it’ll only be valid within the function’s sco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it’ll be deleted at the end of the function and the ptr will point t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need to us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turning pointers from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rray is converted to a pointer as soon as passed into a function. The array contents are therefore passed by “reference” into th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modifications of the array contents within the function will be persistent (changes original too). This means there is no need to return the arr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the contents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will be arranged in order even after the call to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Or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has been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4992840"/>
            <a:ext cx="4392720" cy="201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sample[size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oid getOrder(float* sample, int siz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bubble sort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5445000"/>
            <a:ext cx="3529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This calle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returning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refer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last two tutorials, you have encountered variables that will always have the same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42900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variables only have to be declared and initialised once and never redefined. They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re declared by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570384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useful to declar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as a global variable if it is called throughout the pro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2525760"/>
            <a:ext cx="2881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double PI = 3.1415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double G = 6.67e-1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4653000"/>
            <a:ext cx="35272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nst double PI = 3.1415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PI = 3.2;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 pointers and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references, pointers do not always refer to the same object. Pointers can be reass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s can be fixed to one object (i.e. address) u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3413160"/>
            <a:ext cx="3672000" cy="318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High Tower Text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 double* pPI = &amp;PI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pPI = &amp;x; 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High Tower Text"/>
              </a:rPr>
              <a:t>// 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double* </a:t>
            </a:r>
            <a:r>
              <a:rPr b="1" lang="en-US" sz="2100" spc="-1" strike="noStrike">
                <a:solidFill>
                  <a:srgbClr val="000000"/>
                </a:solidFill>
                <a:latin typeface="High Tower Text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 px = &amp;x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px = &amp;PI; 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High Tower Text"/>
              </a:rPr>
              <a:t>// err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igh Tower Text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double* </a:t>
            </a:r>
            <a:r>
              <a:rPr b="1" lang="en-US" sz="2000" spc="-1" strike="noStrike">
                <a:solidFill>
                  <a:srgbClr val="000000"/>
                </a:solidFill>
                <a:latin typeface="High Tower Text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cpPI = &amp;P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cpPI = &amp;x 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High Tower Text"/>
              </a:rPr>
              <a:t>// err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3357720"/>
            <a:ext cx="4824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er to a constant value =&gt; Value it points to can’t be changed but pointer can be reassigned to a diff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pointer to a value =&gt; Value may be changed but pointer can’t be reassigned to a different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 pointer to const value =&gt; Value can’t be chang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er can’t be reassigned a different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questions abou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my functions be used by other progra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. Place your functions in a separate translation un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I supply a default value for a function argu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default value for the argument in the function proto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 function call itsel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these are known as recursive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I have to write separate functions for each type, even though the function will be exactly the s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yes. But these functions can have the same identifier (this is known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oad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un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questions abou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possible to call a function that modifies the input arg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. Instead of pass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variables to the function you pas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se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I return more than one value from a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n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n array storing the values or include the array as an input argument in the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the value of a function variable be made constant throughout the entire progr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use the const keyword when variable is declared. The const keyword can also be used to assign pointers to a fixed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wap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916280"/>
            <a:ext cx="425916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pping the values in the function will have no effect on the variable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ing a function in this way is referred to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ing by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fact, the object (variable) within the funtion is actually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p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the original (just has the same lab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11667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want to write a function that takes two integers and transposes their valu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1974960"/>
            <a:ext cx="4032360" cy="569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int x = 2, y = 5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cout &lt;&lt; x &lt;&lt; "," &lt;&lt; y &lt;&lt; endl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swap(x,y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cout &lt;&lt; x &lt;&lt; "," &lt;&lt; y &lt;&lt; endl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void swap(int x, int y) 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300" spc="-1" strike="noStrike">
                <a:solidFill>
                  <a:srgbClr val="333399"/>
                </a:solidFill>
                <a:latin typeface="High Tower Text"/>
              </a:rPr>
              <a:t>//not same x and y (copies)</a:t>
            </a: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int tmp = y; y = x; x = tmp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cout &lt;&lt; x &lt;&lt; "," &lt;&lt; y &lt;&lt; endl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return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99280" y="5611680"/>
            <a:ext cx="649440" cy="120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623736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 there an alternative method that allows the modification of the input variab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loading in C+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and function names are not important, it i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in which they are used that mat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34136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! But you first have to understand the concepts of pointers and refer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5345280"/>
            <a:ext cx="82296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derstand how pointers and references work you must appreciate that these operators can be overloaded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3645000"/>
            <a:ext cx="7490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these two operators close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1" lang="en-GB" sz="5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5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ference is just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s allow multiple variables to acces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168720"/>
            <a:ext cx="3673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x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y is a ref to an in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&amp; y =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29160" y="2492280"/>
            <a:ext cx="2959200" cy="2089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4768920"/>
            <a:ext cx="822960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ference is initialised by placing an ampersand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e and the variable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eference must be initalised to an object when it is defined and cannot subsequently reference a diff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hese two pieces of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1628640"/>
            <a:ext cx="6840720" cy="244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nt carl = 27;           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 assign age to 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nt lecturer = carl; 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 </a:t>
            </a:r>
            <a:r>
              <a:rPr b="1" lang="en-US" sz="2200" spc="-1" strike="noStrike">
                <a:solidFill>
                  <a:srgbClr val="333399"/>
                </a:solidFill>
                <a:latin typeface="High Tower Text"/>
              </a:rPr>
              <a:t>copy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carl++;                   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 birth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// display 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cout &lt;&lt; “Carl is " &lt;&lt; carl &lt;&lt; endl;              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Carl is 2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cout &lt;&lt; “Lecturer is " &lt;&lt; lecturer &lt;&lt; endl; 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 Lecturer is 2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3860640"/>
            <a:ext cx="6840720" cy="2775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nt carl = 27;              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 assign age to 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nt&amp; lecturer = carl; 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 </a:t>
            </a:r>
            <a:r>
              <a:rPr b="1" lang="en-US" sz="2200" spc="-1" strike="noStrike">
                <a:solidFill>
                  <a:srgbClr val="333399"/>
                </a:solidFill>
                <a:latin typeface="High Tower Text"/>
              </a:rPr>
              <a:t>reference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 to </a:t>
            </a:r>
            <a:r>
              <a:rPr b="1" lang="en-US" sz="2200" spc="-1" strike="noStrike">
                <a:solidFill>
                  <a:srgbClr val="333399"/>
                </a:solidFill>
                <a:latin typeface="High Tower Text"/>
              </a:rPr>
              <a:t>same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 object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carl++;                      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 birth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// display 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cout &lt;&lt; “Carl is " &lt;&lt; carl &lt;&lt; endl;              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 Carl is 2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cout &lt;&lt; “Lecturer is " &lt;&lt; lecturer &lt;&lt; endl; 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 Lecturer is 2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602136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is changed with original obj, while copy i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thing done to ref affects original obj and vice vers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85080" y="2781360"/>
            <a:ext cx="358920" cy="2376360"/>
          </a:xfrm>
          <a:custGeom>
            <a:avLst/>
            <a:gdLst>
              <a:gd name="textAreaLeft" fmla="*/ 47880 w 358920"/>
              <a:gd name="textAreaRight" fmla="*/ 311040 w 358920"/>
              <a:gd name="textAreaTop" fmla="*/ 415800 h 2376360"/>
              <a:gd name="textAreaBottom" fmla="*/ 17229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inter is an object that points to or refers to another object but, unlike a reference, a pointer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. The referen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the new pointer object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object it is pointing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3213000"/>
            <a:ext cx="3673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x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y is a ptr to an in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* y = &amp;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356000" y="2637000"/>
            <a:ext cx="4651560" cy="1817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68360" y="4437000"/>
            <a:ext cx="822960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inter is initialised by placing an asterix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e and the variable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like a reference, a pointer can be subsequently changed to point to another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a variable is the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dress of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ot a reference (operator overlo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3628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get the value of the obj pointed at by a ptr by placing a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it.  This is call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referenc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t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a ptr is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value pointed a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220760"/>
            <a:ext cx="8064720" cy="4972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carl = 27;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assign age to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* lecturer = &amp;carl;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</a:t>
            </a:r>
            <a:r>
              <a:rPr b="1" lang="en-US" sz="2000" spc="-1" strike="noStrike">
                <a:solidFill>
                  <a:srgbClr val="333399"/>
                </a:solidFill>
                <a:latin typeface="High Tower Text"/>
              </a:rPr>
              <a:t>pointer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 to address of </a:t>
            </a:r>
            <a:r>
              <a:rPr b="1" lang="en-US" sz="2000" spc="-1" strike="noStrike">
                <a:solidFill>
                  <a:srgbClr val="333399"/>
                </a:solidFill>
                <a:latin typeface="High Tower Text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arl++;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birth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// display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“Carl is " &lt;&lt; carl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“Lecturer is " &lt;&lt; lecturer &lt;&lt; endl;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“Lecturer is " &lt;&lt; *lecturer &lt;&lt; endl;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value pointed to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// change lecturer to p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paul = ??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lecturer = &amp;pau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(*lecturer)++;    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another birthday (only inc obj </a:t>
            </a:r>
            <a:r>
              <a:rPr b="1" lang="en-US" sz="2000" spc="-1" strike="noStrike">
                <a:solidFill>
                  <a:srgbClr val="333399"/>
                </a:solidFill>
                <a:latin typeface="High Tower Text"/>
              </a:rPr>
              <a:t>currently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 pts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// display a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“Carl is " &lt;&lt; carl &lt;&lt; endl;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Carl is still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"lecturer is " &lt;&lt; *lecturer &lt;&lt; endl;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Lecturer is 1 year 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8720" y="981000"/>
            <a:ext cx="2484360" cy="1465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l is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cturer is 0xbffffb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cturer is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l is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cturer is ??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ing b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259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put arguments in a function can be modifi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ng a reference to the object (i.e. its address), rather than the value (i.e a copy) of the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chieved by placing a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tween the type and variable name in the args of the function to indicate a reference (otherwise syntax is unchang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thod is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ing by re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1460520"/>
            <a:ext cx="4176720" cy="631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void swap(int&amp; x, int&amp;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x = 2, y =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x &lt;&lt; "," &lt;&lt; y &lt;&lt; end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wap(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still 5,2 as func ref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  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original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x &lt;&lt; "," &lt;&lt; y &lt;&lt; end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void swap(int&amp; x, int&amp; y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tmp = y; y = x; x = t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x &lt;&lt; "," &lt;&lt; y &lt;&lt; end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6920" y="1268280"/>
            <a:ext cx="649080" cy="120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ssing by reference using Point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inter to an object (again address) can also be used pass by “reference” into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do this we place a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tween the type and variable name in the args (and dereference to get obj’s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75640" y="2781360"/>
            <a:ext cx="216036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ers are to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using! W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er with th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you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ready b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pointers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code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knew ab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2795760"/>
            <a:ext cx="6264360" cy="448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oid swap(int* x, int*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x = 2, y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x &lt;&lt; "," &lt;&lt; y &lt;&lt; end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wap(&amp;x,&amp;y);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pass address (poi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x &lt;&lt; "," &lt;&lt; y &lt;&lt; endl;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</a:t>
            </a:r>
            <a:r>
              <a:rPr b="1" lang="en-US" sz="2000" spc="-1" strike="noStrike">
                <a:solidFill>
                  <a:srgbClr val="333399"/>
                </a:solidFill>
                <a:latin typeface="High Tower Text"/>
              </a:rPr>
              <a:t>still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 5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oid swap(int* x, int* 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tmp = *y;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dereference y to get value pointed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*y = *x;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value pointed by y = that pointed by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*x = tmp;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 value pointed by x = t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*x &lt;&lt; "," &lt;&lt; *y &lt;&lt; end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aaargggghhhh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21:03:38Z</dcterms:created>
  <dc:creator>sarah</dc:creator>
  <dc:description/>
  <dc:language>en-US</dc:language>
  <cp:lastModifiedBy>Computing Services</cp:lastModifiedBy>
  <dcterms:modified xsi:type="dcterms:W3CDTF">2007-11-02T09:39:30Z</dcterms:modified>
  <cp:revision>48</cp:revision>
  <dc:subject/>
  <dc:title>Slide 1</dc:title>
</cp:coreProperties>
</file>