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8A2-76B9-4C47-8A0D-B5120FB6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91A-BA3A-499E-AFE5-1F6C506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737-430C-4055-BA1C-99360A8C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934-FD22-4D65-B62E-0416B3EF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1E6-56FA-45D7-9367-24769B55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608-B209-425B-ABD0-77D0392B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84B-D67A-45AE-98B0-5992255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B9E-9068-4FA6-A8DF-EF89ACC1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31A-6647-469B-ABE9-1C8A02CF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D59-50F4-409A-B518-B278E31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A12-86AC-49F0-AEB5-5070B17E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21A-1C46-4925-B821-77402BF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615-0CED-4667-8D89-809D24B8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042920" y="2924280"/>
            <a:ext cx="698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Five: Introduc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ll be designed to introduce the basic concepts of class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iteration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nsists of two characteristics, the age and retail price of the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46040" y="3068640"/>
            <a:ext cx="4917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 class is declared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 followed by the name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declared inside the block are associated with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variab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722920" y="3213000"/>
            <a:ext cx="2521080" cy="375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r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emi-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73200" y="1816200"/>
            <a:ext cx="82296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638172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Fiesta (previous slide) is an object that contains two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446040" y="3357720"/>
            <a:ext cx="8229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ommon misundersta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ement is trying to assign an age to the idea of a car, rather than age of particular c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 any sens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ement is accessing age without the dot operator. The car member variables only exist with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ar class (else how do we know if w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of myFiesta or myFerrari?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ing Member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variables are access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t operator is placed after name of the object and followed by the name of the desired membe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076720" y="5950080"/>
            <a:ext cx="34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771640" y="2781360"/>
            <a:ext cx="3456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yFiesta.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076720" y="4221000"/>
            <a:ext cx="345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.ageInYears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r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526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 class has no advantages over using a one dimensional arr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can only hold variables of the same type whilst classes can contain variable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is just being written as a data structure. A C-sty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 this purpo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but classes are much more powerful th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Unlike structs, members of a class are private by default, which encourages encapsulation (see la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867280" y="2581200"/>
            <a:ext cx="2521080" cy="265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867280" y="4890960"/>
            <a:ext cx="252108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no semi-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867280" y="1700280"/>
            <a:ext cx="2521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Car = {5,20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82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s a collection of member variables and a set of related functions,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722920" y="2643120"/>
            <a:ext cx="2665440" cy="30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46040" y="2565360"/>
            <a:ext cx="51339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tions are also accessed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istinguished from member variables by 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he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other functions they can tak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functions have a role specific to the class they are declared in. They are primarily used to access and manipulate class membe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724360" y="5734080"/>
            <a:ext cx="266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yFiesta.brak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Memb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a normal function definition and a member function is the form of the function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function name needs to be prefixed with the class it belongs to follow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 resolution operator 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yntax indicates to the compiler that the functio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nd can only be accessed throug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27280" y="5084640"/>
            <a:ext cx="46087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brake memb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Car::brak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Slowing down“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and Public Membe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194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members of a class are declared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 defaul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keyword is removed from class declaration the member variables and methods cannot be accessed from outside the cla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 should the member data be private? I created the object so I should have access to all of its inform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95280" y="455292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nk of the declaration as the acquisition of an object rather than the creation of an obje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ner workings are hidden from you for your own protection! You don’t need to know how the object works, all you need is an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the object. This is known a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capsula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51640" y="1413000"/>
            <a:ext cx="295272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error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myFiesta.ageInYears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5410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 data can be modified by call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er functions known as accessor methods.  Accessor methods are commonly known as “getters” and “setter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 go the trouble hiding the member data? It is easier for me to access the data directly through the dot operator rather than through this level of indire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796000" y="1566720"/>
            <a:ext cx="2952720" cy="3813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Ca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brak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acceler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setAge(int ag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getAg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void setPrice(int pri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getPri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ageInYea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priceInG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5415120"/>
            <a:ext cx="82296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essor method will allow you to change the name of a member variable. This change is hidden from the user because of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in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der of this lecture will be used to construct a poin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6040" y="4624560"/>
            <a:ext cx="82296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ign the interface, think in terms of the point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ident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s can you give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distance from the ori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distance from another point in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01840" y="2587680"/>
            <a:ext cx="266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Point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class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5194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 interface design contains just accessor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data is private and the accessor functions ar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interface, is put into a sepa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(this allows to minimise the dependencies between different pieces of c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796000" y="1566720"/>
            <a:ext cx="2952720" cy="502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point 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X(float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Y(floa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etZ(float 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getZ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its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524720" y="6127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835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ccessor functions, along with other class methods, are pla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, seperate from the header file and the main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lementation is totally separate from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00000" y="4653000"/>
            <a:ext cx="302436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 “point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Point::setX(float 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ts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getX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its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076720" y="1628640"/>
            <a:ext cx="381636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 “point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et coordinates for poi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.setX(2); a.setY(1); a.setZ(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isplay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"vector coordinates a: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a.getX()&lt;&lt;","&lt;&lt; a.get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","&lt;&lt;a.getZ()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995640" y="4653000"/>
            <a:ext cx="493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r of the point class will just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eader file at the top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ordinates of the point are set and retriev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487600" y="6286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985080" y="4103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Use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made it this fa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gratulations! You can program in C+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you stop here you might as well have learnt a less syntactically complicat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half of the course will be spent introdu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Orient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O)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of Point from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blic class method is included that returns the distance of a point instance from the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356000" y="2852640"/>
            <a:ext cx="403236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distance from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distanceFromOrig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 = sqrt( pow(itsX,2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itsY,2) + pow(itsZ,2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di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2852640"/>
            <a:ext cx="338472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clare poi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FromOrigi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variables can be us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from the sam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77080" y="497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916360" y="4976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betwee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ints distance from another point in 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1916280"/>
            <a:ext cx="6193080" cy="405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istance betwee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nt::distanceFromPoint(float x, float y, float z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X = itsX -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Y = itsY -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fZ = itsZ -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 = sqrt( pow(difX,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difY,2)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+ pow(difZ,2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dist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716360" y="2997360"/>
            <a:ext cx="403236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x = b.getX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y = b.ge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z = b.getZ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a.distanceFromPoint(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219640" y="19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804000" y="2997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UsePoint.cp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46040" y="6165720"/>
            <a:ext cx="837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first iterati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of one of the Point’s is passed into the new Point’s membre function. There’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ng Objects into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239840"/>
            <a:ext cx="302436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int object can be passed directly into the membe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5"/>
          <p:cNvGrpSpPr/>
          <p:nvPr/>
        </p:nvGrpSpPr>
        <p:grpSpPr>
          <a:xfrm>
            <a:off x="2987640" y="1197000"/>
            <a:ext cx="5976720" cy="5741280"/>
            <a:chOff x="2987640" y="1197000"/>
            <a:chExt cx="5976720" cy="5741280"/>
          </a:xfrm>
        </p:grpSpPr>
        <p:sp>
          <p:nvSpPr>
            <p:cNvPr id="144" name="Text Box 7"/>
            <p:cNvSpPr/>
            <p:nvPr/>
          </p:nvSpPr>
          <p:spPr>
            <a:xfrm>
              <a:off x="2987640" y="2492280"/>
              <a:ext cx="5976720" cy="3660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distance between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Point::distanceFromPoint(Point anotherPoint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X = itsX - anotherPoint.itsX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Y = itsY - anotherPoint.itsY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fZ = itsZ - anotherPoint.itsZ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 = sqrt( pow(difX,2) + pow(difY,2) +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ow(difZ,2) 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return distance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3419280" y="1197000"/>
              <a:ext cx="5400720" cy="182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Point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"/>
            <p:cNvSpPr/>
            <p:nvPr/>
          </p:nvSpPr>
          <p:spPr>
            <a:xfrm>
              <a:off x="3922560" y="5084640"/>
              <a:ext cx="4824360" cy="185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int main(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 =  a.distanceFromPoint(b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6804000" y="6272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Use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7596000" y="11970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7307280" y="461628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cpp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179280" y="2608200"/>
            <a:ext cx="28083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mber variables from another point obj have to be accessed via the dot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 another object’s member data can be accessed directly by an objec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ing public accessor fu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168120" y="5532480"/>
            <a:ext cx="34671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++ is not a ‘pure’ object orientated language! (there’s a compromise to enhance function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 Class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distance functions have different input args. Therefore a single member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overloaded (polymorphis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oading similar functions simplifies the clas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5"/>
          <p:cNvGrpSpPr/>
          <p:nvPr/>
        </p:nvGrpSpPr>
        <p:grpSpPr>
          <a:xfrm>
            <a:off x="611280" y="3213000"/>
            <a:ext cx="8064360" cy="3302640"/>
            <a:chOff x="611280" y="3213000"/>
            <a:chExt cx="8064360" cy="3302640"/>
          </a:xfrm>
        </p:grpSpPr>
        <p:sp>
          <p:nvSpPr>
            <p:cNvPr id="155" name="Text Box 8"/>
            <p:cNvSpPr/>
            <p:nvPr/>
          </p:nvSpPr>
          <p:spPr>
            <a:xfrm>
              <a:off x="611280" y="3213000"/>
              <a:ext cx="5400720" cy="208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Origin(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FromPoint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4788000" y="3357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[Point.h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3274920" y="4687920"/>
              <a:ext cx="5400720" cy="182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class Point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public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();     </a:t>
              </a:r>
              <a:r>
                <a:rPr b="0" lang="en-US" sz="2000" spc="-1" strike="noStrike">
                  <a:solidFill>
                    <a:srgbClr val="333399"/>
                  </a:solidFill>
                  <a:latin typeface="High Tower Text"/>
                </a:rPr>
                <a:t>// from orig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float distance(Point anotherPoint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High Tower Text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igh Tower Text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4"/>
            <p:cNvSpPr/>
            <p:nvPr/>
          </p:nvSpPr>
          <p:spPr>
            <a:xfrm flipV="1">
              <a:off x="6227640" y="3715560"/>
              <a:ext cx="1584360" cy="792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4360" y="1413000"/>
            <a:ext cx="7777080" cy="530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oint class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lass Po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float x, float y, float z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o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oint();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~Point(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X(float x)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c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Y(floa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etZ(float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X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getZ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distance(Point anotherPo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X;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memb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its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Class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6802560" y="2349360"/>
            <a:ext cx="1656720" cy="1015920"/>
            <a:chOff x="6802560" y="2349360"/>
            <a:chExt cx="1656720" cy="1015920"/>
          </a:xfrm>
        </p:grpSpPr>
        <p:sp>
          <p:nvSpPr>
            <p:cNvPr id="162" name="AutoShape 5"/>
            <p:cNvSpPr/>
            <p:nvPr/>
          </p:nvSpPr>
          <p:spPr>
            <a:xfrm>
              <a:off x="6802560" y="2349360"/>
              <a:ext cx="1584000" cy="1008000"/>
            </a:xfrm>
            <a:prstGeom prst="wedgeRoundRectCallout">
              <a:avLst>
                <a:gd name="adj1" fmla="val -72944"/>
                <a:gd name="adj2" fmla="val -291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6875280" y="2349360"/>
              <a:ext cx="158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a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se?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defines the information that can be held by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limits the actions that can be performed on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is a method of determining the amount of memory that needs to be allocated for a new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651640" y="1779480"/>
            <a:ext cx="3168360" cy="433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++ built-i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nt a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loat b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double c;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bool d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har e;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98560" y="5256360"/>
            <a:ext cx="7921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height = 1.76;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floa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unsigned integer counter = 5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type limits to int abov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nter = counter / 3.6; 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t conversion of r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are not just a method of expressing the precision of a value. A typ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to OO programming in C++ is the ability to create user defined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11280" y="3589200"/>
            <a:ext cx="4319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ome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article electron, mu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epartment physics, chemis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68360" y="577692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ew types are declared and defined in the correct manner then all of the above statements are valid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need for new typ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lready written programs to model several real-world situations without need for 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2381400"/>
            <a:ext cx="78483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Complex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same programming logic be applied to the following complex sys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 engin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ptimisation within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interaction with detecto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! Split problem into small group of calculations and store  relevant values in variables that have labels relevant to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programming allows the creation of new types that more accurately reflect the scenario to be mode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can be modeled in terms of objects and the interaction between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seems contrary to our obsession with reducing any situation into a series of abstract mathematical statemen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ated programming is just a higher level of abstraction than you are currently used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rograms are already written in a high-level language. Can you answer these questions? Do you c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it sequence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mory addresses are b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your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program interp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  signals into ASC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5435640" y="3716280"/>
            <a:ext cx="3313080" cy="2448000"/>
            <a:chOff x="5435640" y="3716280"/>
            <a:chExt cx="3313080" cy="2448000"/>
          </a:xfrm>
        </p:grpSpPr>
        <p:sp>
          <p:nvSpPr>
            <p:cNvPr id="62" name="Rectangle 4"/>
            <p:cNvSpPr/>
            <p:nvPr/>
          </p:nvSpPr>
          <p:spPr>
            <a:xfrm>
              <a:off x="5435640" y="3800160"/>
              <a:ext cx="2718000" cy="228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embler langu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wise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9"/>
            <p:cNvGrpSpPr/>
            <p:nvPr/>
          </p:nvGrpSpPr>
          <p:grpSpPr>
            <a:xfrm>
              <a:off x="8244000" y="3716280"/>
              <a:ext cx="504720" cy="2448000"/>
              <a:chOff x="8244000" y="3716280"/>
              <a:chExt cx="504720" cy="2448000"/>
            </a:xfrm>
          </p:grpSpPr>
          <p:sp>
            <p:nvSpPr>
              <p:cNvPr id="64" name="AutoShape 5"/>
              <p:cNvSpPr/>
              <p:nvPr/>
            </p:nvSpPr>
            <p:spPr>
              <a:xfrm>
                <a:off x="8604360" y="3716280"/>
                <a:ext cx="144360" cy="2448000"/>
              </a:xfrm>
              <a:prstGeom prst="upArrow">
                <a:avLst>
                  <a:gd name="adj1" fmla="val 50000"/>
                  <a:gd name="adj2" fmla="val 42394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 rot="16200000">
                <a:off x="7455600" y="472176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BSTR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ing with objects and object interaction enables programs to be designed on a more intuitiv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ovides the syntax to allow you to manipulate user defined objects in the same way that integers and floating numbers are manip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00040" y="5427720"/>
            <a:ext cx="7818480" cy="183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1 = density1 * volume1;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       // statements esta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2 = density2 * volume2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values of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ce = (G * mass1 * mass2) /pow(dist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00040" y="3571920"/>
            <a:ext cx="7818480" cy="113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lanet a,b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formation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a.force(b)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by class dec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0040" y="4492800"/>
            <a:ext cx="7818480" cy="148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ass1 = getMass(1);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                               // functions called to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ce = getForce (G,mass1,mass2,dist); </a:t>
            </a:r>
            <a:r>
              <a:rPr b="0" lang="en-US" sz="2400" spc="-1" strike="noStrike">
                <a:solidFill>
                  <a:srgbClr val="7030a0"/>
                </a:solidFill>
                <a:latin typeface="High Tower Text"/>
              </a:rPr>
              <a:t>//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retriev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8353440" y="3838680"/>
            <a:ext cx="504720" cy="2448000"/>
            <a:chOff x="8353440" y="3838680"/>
            <a:chExt cx="504720" cy="2448000"/>
          </a:xfrm>
        </p:grpSpPr>
        <p:sp>
          <p:nvSpPr>
            <p:cNvPr id="72" name="AutoShape 5"/>
            <p:cNvSpPr/>
            <p:nvPr/>
          </p:nvSpPr>
          <p:spPr>
            <a:xfrm>
              <a:off x="8713800" y="3838680"/>
              <a:ext cx="144360" cy="2448000"/>
            </a:xfrm>
            <a:prstGeom prst="upArrow">
              <a:avLst>
                <a:gd name="adj1" fmla="val 50000"/>
                <a:gd name="adj2" fmla="val 42394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 rot="16200000">
              <a:off x="7565040" y="48441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types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lass. A class is a category of objects. Several objects of a certain class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i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 like built in typ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8360" y="407664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 can be declared in the same way that an integer can be declared. The vari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Fies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ociated with an object of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nstance is not a single value. Math operators have to be assigned a new meaning in this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4007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ar myFiesta, myFerrari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050920" y="6237360"/>
            <a:ext cx="48247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someValue = myFerrari – myFie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0:01:49Z</dcterms:created>
  <dc:creator>sarah</dc:creator>
  <dc:description/>
  <dc:language>en-US</dc:language>
  <cp:lastModifiedBy>NICE</cp:lastModifiedBy>
  <dcterms:modified xsi:type="dcterms:W3CDTF">2008-10-16T07:43:39Z</dcterms:modified>
  <cp:revision>52</cp:revision>
  <dc:subject/>
  <dc:title>Slide 1</dc:title>
</cp:coreProperties>
</file>