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4C0-0065-4ACC-B5A5-AED4A898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B7B-FFEA-4D6A-A91E-55D0C3F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B0E-765E-4940-B41F-421EB3E9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382-51B6-4963-81A3-0230F153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1AA-8451-4AE9-9645-FBF83AF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C1E-9BF4-4B08-9D7C-1409ADA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F6D-B6D2-4CE4-A770-49B1B3AE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9F3-5A72-4FA4-8312-7BBD876C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60D-3904-497A-813C-D277BE7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5B3-5C83-4333-A40C-7FF8104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4D1-5AC9-4A2C-A2E8-521FA8F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BB8-A27B-4944-9E94-67E05BF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8CB-908C-4D87-8BAC-3D46D1F76F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plusplus.com/doc/tutorial/preprocessor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reprocessor Mac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859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compiler interprets code it is passed throug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rocess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whose task is to find preprocessor directives,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c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rocessor macros are indicated by lines beginning with a hash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#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fact, we have already been us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#inclu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c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cros can also be used for other purposes, such as defining constants, although they are generally considered bad practi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286240" y="4357800"/>
            <a:ext cx="300060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fndef  MYHEADER_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define MYHEADER_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High Tower Text"/>
              </a:rPr>
              <a:t>//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428760" y="4572000"/>
            <a:ext cx="50720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e place where macros are useful is to prevent a header file being included multiple ti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485640" y="590400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 more information on macros se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plusplus.com/doc/tutorial/preprocessor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1:53:14Z</dcterms:created>
  <dc:creator>gwilliam</dc:creator>
  <dc:description/>
  <dc:language>en-US</dc:language>
  <cp:lastModifiedBy>gwilliam</cp:lastModifiedBy>
  <dcterms:modified xsi:type="dcterms:W3CDTF">2008-10-27T12:21:33Z</dcterms:modified>
  <cp:revision>7</cp:revision>
  <dc:subject/>
  <dc:title>Preprocessor Macros</dc:title>
</cp:coreProperties>
</file>