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0B82-B3EE-46DB-AD2A-38561C5F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ACBC-4246-41CF-B98A-300FDAFE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41FB-0E1F-481D-A33B-E45BDA5B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4F8-5792-4D21-87DD-54590FE9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087F-418B-48BF-BCD1-19E9270D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398-9004-4C97-927B-1FFA01CD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E037-0843-4539-BD52-267B3494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A2C-8967-4990-8CE3-55B79006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A8D4-F713-4EF4-A58E-16363763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0F7D-3E65-4526-B6E4-F8EAB52A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929B-9A9A-497B-8A1C-E79E222B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7455-2249-47F5-BF50-B991D512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B148-EEF8-4684-AB98-1B155F3F39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william@hep.ph.liv.ac.uk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ppreference.com/cppstl.html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ntroduction to Programming using C++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900000" y="2924280"/>
            <a:ext cx="7417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cture Nine: Templates &amp; the ST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258920" y="4581360"/>
            <a:ext cx="662616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arl Gwillia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High Tower Text"/>
                <a:hlinkClick r:id="rId1"/>
              </a:rPr>
              <a:t>gwilliam@hep.ph.liv.ac.u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http://hep.ph.liv.ac.uk/~gwilliam/cppcou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mplate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3744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ntainer class that has an increment func, except for char types where it has uppercase func inste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286160" y="1125360"/>
            <a:ext cx="4533840" cy="7107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class templa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template &lt;class T&gt; class mycontainer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T elemen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ublic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mycontainer (T arg) {element=arg;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T increase () {return ++element;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class template specializ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template &lt;&gt; class mycontainer &lt;char&gt;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har elemen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ublic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mycontainer (char arg) {element=arg;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har uppercase (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f ((element&gt;='a')&amp;&amp;(element&lt;='z'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element+='A'-'a'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elemen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57120" y="3824280"/>
            <a:ext cx="3816360" cy="314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 (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mycontainer&lt;int&gt; myint (7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mycontainer&lt;char&gt; mychar ('j'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myint.increase(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&lt;&lt; end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mychar.uppercase(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&lt;&lt; end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8244000" y="5734080"/>
            <a:ext cx="431640" cy="862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124000" y="6237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MyContainer.h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5580000" y="627228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Specialisation.cpp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on-type and Default Param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6889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also give default values to template parameters (including non-typed ones) in exactly the same way as to arguments.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46200" y="5084640"/>
            <a:ext cx="626580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template &lt;class T=int&gt;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class myclass {…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46040" y="5734080"/>
            <a:ext cx="8229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pecifies what type will be used in the case that no type is explicitly given in the class initialis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68360" y="138420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sides template args which represent types, templates can also have regular typed parameters, similar to those found in functions. E.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547640" y="2852640"/>
            <a:ext cx="6264360" cy="752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template &lt;class T, int size&gt;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class myclass {…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ample: Generic Arr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ic type array class with bounds check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57120" y="1971720"/>
            <a:ext cx="4786560" cy="5031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template&lt;class T, int size&gt; class MyArray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T a[size]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ublic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MyArray(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or (int i = 0; i&lt; size; i++) a[i] =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T&amp; operator[] (int i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range check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template&lt;class T, int size&gt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T&amp; MyArray&lt;T, size&gt;::operator[](int i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f  (i&lt;0 || i &gt; size-1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“Index ” &lt;&lt; i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&lt;&lt; “ out of bounds” &lt;&lt; end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exit(1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 else return a[i]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292720" y="1989000"/>
            <a:ext cx="3529080" cy="3660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MyArray&lt;double, 5&gt; dbobj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or (int i = 0; i &lt; 5; i++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dbobj[i] = (double)i/2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or (int i = 0; i &lt; 5; i++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dbobj[i] &lt;&lt; “, “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end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157800" y="5902200"/>
            <a:ext cx="1943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, 0.5, 1, 1.5,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494160" y="6272280"/>
            <a:ext cx="17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MyArray.h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372360" y="4941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GenericArray.cpp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mplates and Multiple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the point of view of the compiler, templates are not normal functions or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re compiled on demand =&gt; template function is not compiled until an instantiation with specific  args is required. Compiler then generates a function specifically for those args from the temp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 templates are compiled when required, the implementation (definition) of a template class or function must be in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ile as its declaration =&gt;  can’t separate interface in separate header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andard Template Library (ST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ndard Template Library (STL) provides general-purpose templated classes/functions that implement many commonly used data structures and algorith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the STL is constructed from templates, the data structures and algorithms can be applied to nearly any type of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e we only have time for a brief overview of two of the more commonly used &amp; useful components of the ST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more detailed information s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ppreference.com/cppstl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ponents of the S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Containers,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ect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ray of elements allowing fast random access and appending of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r insertion and deleting but slower random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ouble-End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e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 appending and prepen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ociative Containers, e.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lues are mapped to unique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gorithms to manipulate (all) containers, e.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, Sort, Copy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vector is perhaps the most general-purpose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ray =&gt; it can allocate memory as needed and so grow to accommodate any reasonable number of elements.  This is an advantage over an arr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mong others, we can construct an empty vecto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446040" y="447984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one with num copies of a particular valu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564000" y="3935520"/>
            <a:ext cx="2232000" cy="752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vector&lt;type&gt; v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987640" y="5086440"/>
            <a:ext cx="3745080" cy="752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vector&lt;type&gt; v(num, value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468360" y="57340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ype is specified in exactly same way as the class templates we have already seen, using angle bra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443640" y="692280"/>
            <a:ext cx="23050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#include&lt;vector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822040"/>
            <a:ext cx="8229600" cy="8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ments of a vector can be set and accessed using the [ ] operator as with an arr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46040" y="1285920"/>
            <a:ext cx="82296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add/remove elements from the end of the array usin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sh_back(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p_back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the memory will increase/decrease automatically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68360" y="3929040"/>
            <a:ext cx="822960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there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hecking that index is within array bou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we access the elements of the vector via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unction it will give an error if access an index outside the bounds of the array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940360" y="2143080"/>
            <a:ext cx="24480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.push_back(20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.pop_back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938920" y="5286240"/>
            <a:ext cx="2449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v.at(i) &lt;&lt;“\n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940360" y="3286080"/>
            <a:ext cx="244800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[3] = 3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v[5] &lt;&lt; end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468360" y="5643720"/>
            <a:ext cx="82296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vector knows about it’s current size (unlike array), which can be queried vi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ze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940360" y="6143760"/>
            <a:ext cx="24480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&lt;&lt;v.size()&lt;&lt;“\n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cto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57120" y="1317600"/>
            <a:ext cx="8358120" cy="689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#include&lt;vector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()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ector&lt;int&gt; v1(10, 0);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vector with 10 elements, all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ector&lt;float&gt; v2;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vector with no initial el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or (int i = 0; i &lt; v1.size(); i++) v1[i] = i;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assign elements non-0 val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or (int i = 0; i &lt; v1.size(); i++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{cout &lt;&lt; v1[i] &lt;&lt; “, ”;}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access with </a:t>
            </a:r>
            <a:r>
              <a:rPr b="1" lang="en-US" sz="2000" spc="-1" strike="noStrike">
                <a:solidFill>
                  <a:srgbClr val="333399"/>
                </a:solidFill>
                <a:latin typeface="High Tower Text"/>
              </a:rPr>
              <a:t>no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 bounds check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end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or (int i = 0; i &lt; 10; i++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{v2.push_back((float)i/2);}  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add elements and increase 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or (int i = 0; i &lt; v2.size(); i++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{cout &lt;&lt; v2.at(i) &lt;&lt; “, “;}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access </a:t>
            </a:r>
            <a:r>
              <a:rPr b="1" lang="en-US" sz="2000" spc="-1" strike="noStrike">
                <a:solidFill>
                  <a:srgbClr val="333399"/>
                </a:solidFill>
                <a:latin typeface="High Tower Text"/>
              </a:rPr>
              <a:t>with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 bounds check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end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0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932360" y="6089760"/>
            <a:ext cx="388764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 1, 2, 3, 4, 5, 6, 7, 8, 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, 0.5, 1., 1.5, 2., 2.5, 3., 3.5, 4., 4.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6659640" y="1341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VectorEg.cpp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erators are objects that are very much like poin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llow us to cycle through a container in much the same way we can use a ptr to cycle through an arr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erators are handled just like pointers: we can increment and decrement them and dereference (*itr) them to give the object at that position in the contai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erators are defined within the container classes so to declare one we need to qualify it with the container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57200" y="5805360"/>
            <a:ext cx="84358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actually several different types of iterator (input, output, forward, reverse …) but we won’t go into that he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771640" y="5084640"/>
            <a:ext cx="4105440" cy="752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ntainer&lt;type&gt;::iterator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mp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mplates are a very powerful feature of C++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llow you to use one function or class with many different data types, without having to recode specific versions for each data type (avoiding code duplicati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emplates the user creates generic functions and classes where the type of data the function or class operates upon is specified as a paramete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cessing Vectors via It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39704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is initialised to point to start of vector usin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gin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which returns an iterator to start of v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then increment i as needed &amp; access the elements of the vector by dereferencing it (like a poin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determin when we have reached the end of the vector we us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d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which returns an iterator t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e pa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nd f v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500720" y="1557360"/>
            <a:ext cx="4319280" cy="6403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#include&lt;vector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()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ector&lt;int&gt; v(10,0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ector&lt;int&gt;::iterator i;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vec it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assign elements to vec via it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j =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or (i = v.begin(); i != v.end(); ++i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(*i) = j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j++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access elements of vec via it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or (i = v.begin(); i != v.end(); ++i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(*i) &lt;&lt; “, “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end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6804000" y="151920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VectorEg.cpp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"/>
          <p:cNvGrpSpPr/>
          <p:nvPr/>
        </p:nvGrpSpPr>
        <p:grpSpPr>
          <a:xfrm>
            <a:off x="7072200" y="5384880"/>
            <a:ext cx="1643040" cy="830160"/>
            <a:chOff x="7072200" y="5384880"/>
            <a:chExt cx="1643040" cy="830160"/>
          </a:xfrm>
        </p:grpSpPr>
        <p:sp>
          <p:nvSpPr>
            <p:cNvPr id="143" name="Rounded Rectangular Callout 7"/>
            <p:cNvSpPr/>
            <p:nvPr/>
          </p:nvSpPr>
          <p:spPr>
            <a:xfrm>
              <a:off x="7072200" y="5429880"/>
              <a:ext cx="1428840" cy="785160"/>
            </a:xfrm>
            <a:prstGeom prst="wedgeRoundRectCallout">
              <a:avLst>
                <a:gd name="adj1" fmla="val 28740"/>
                <a:gd name="adj2" fmla="val -83912"/>
                <a:gd name="adj3" fmla="val 16667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8"/>
            <p:cNvSpPr/>
            <p:nvPr/>
          </p:nvSpPr>
          <p:spPr>
            <a:xfrm>
              <a:off x="7072200" y="5384880"/>
              <a:ext cx="1643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e-increment operator is faster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far when we have needed a string we have used a null-terminated char array.  This is the so-called C-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-string is fast but can be clumsy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way to deal with strings is to use the container class string.  This has several 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istency: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tring is now a data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venience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the standard C++ operators can be u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afety: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ray boundaries cannot be over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construct (among other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pty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ings from char 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ings from other str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: If needed, a null-terminated char arr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string can be obtained vi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_str(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443640" y="692280"/>
            <a:ext cx="23050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#include&lt;string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5715000" y="4653000"/>
            <a:ext cx="310500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tring s1;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emp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har* c = “alpha”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tring s2(c);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from ch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tring s3(s2);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from st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5940360" y="6292800"/>
            <a:ext cx="28796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nst char c* = s1.c_str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33573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ings can be compared using comparison operato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==, !=, &lt;, &gt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 Strings ar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qua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have same size &amp; same elements at same po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446040" y="2421000"/>
            <a:ext cx="8229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ings can be concatenated with other strings or char arrays using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perato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68360" y="4795920"/>
            <a:ext cx="822960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ings can be searched using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nd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unction.  If a match is found the start index of the match is returned.  If not it return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ing::np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think of this as -1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468360" y="1268280"/>
            <a:ext cx="82296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ings can be assigned other strings, char arrays or even single cha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5364000" y="1770120"/>
            <a:ext cx="316872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tring s1 = “beta”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tring s2 = s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5365800" y="2924280"/>
            <a:ext cx="316692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tring s3 = s1 + “ and ” + s2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365800" y="4348080"/>
            <a:ext cx="316692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f(s1==s2) cout &lt;&lt; “Same\n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1285920" y="6148440"/>
            <a:ext cx="62150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f(s1.find(“ta”) != string::npos) cout &lt;&lt; “Match Found\n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95280" y="1359000"/>
            <a:ext cx="8352000" cy="5770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#include&lt;string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tring s1(“alpha”);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constructing str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tring s2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tring s3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2 = “beta”;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assigning s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s1 &lt;&lt;“, ”&lt;&lt; s2 &lt;&lt; end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3 = s1 + “ and ” + s2;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concatenating str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s3 &lt;&lt; end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f (s1 == s2) cout &lt;&lt; “s1 same as s2” &lt;&lt; endl;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comparing str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else cout &lt;&lt; “s1 not same as s2” &lt;&lt; endl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unsigned int i = s1.find (“ha”);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searching str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f  (i != string::npos) cout &lt;&lt; “Match found at ” &lt;&lt; i&lt;&lt; end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else cout &lt;&lt; “No match found” &lt;&lt; end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875640" y="5516640"/>
            <a:ext cx="2160360" cy="11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pha, be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pha and be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1 not same as s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tch found at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6805440" y="1341360"/>
            <a:ext cx="19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StringEg.cpp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s are associative containers in which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qu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s are mapped to values. Duplicate are not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just a “name” by which we can refer to the value. The key can be any type/object (often str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key can then be used to look up and retrieve the value from the ma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ce the map is ordered by key, any key must have the comparison operators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a map is a list of key/valu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i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6586560" y="692280"/>
            <a:ext cx="20890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#include&lt;map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irs in C+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++,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template class which can be used to store two values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construct a pair either using it’s constructor,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443640" y="692280"/>
            <a:ext cx="2232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#include&lt;utility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987640" y="2997360"/>
            <a:ext cx="32400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air&lt;string, int&gt; (“Carl”, 27)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468360" y="342900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using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ke_pair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tility, e.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2987640" y="4005360"/>
            <a:ext cx="32400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make_pair(“Carl”, 27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446040" y="443700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dvantage of make_pair() is that the types are determined automatically rather than explicitly specifie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key and the associated value are retrieved from a pair via the member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o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spectivel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187280" y="6165720"/>
            <a:ext cx="662472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“Name: “ &lt;&lt; p.first &lt;&lt; “, Age: ” &lt;&lt; p.second &lt;&lt; end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3984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erting entries into a map is done either usin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sert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th a pair or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[ ]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4932360" y="1844640"/>
            <a:ext cx="37116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m.insert(make_pair(“Carl”, 27)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m[“Andy”] = 37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m[“Carl”] &lt;&lt; end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468360" y="2995560"/>
            <a:ext cx="82296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 a vector, you can also loop through the map using a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era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gin(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d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unc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referencing the iterator returns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from which the key and value can be accessed vi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o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468360" y="551664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search the map for a particular key usin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nd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050920" y="4722840"/>
            <a:ext cx="532764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map&lt;string, int&gt;::iterator i = m.begin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(*i).first &lt;&lt; “ = ” &lt;&lt; (*i).second &lt;&lt; endl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46040" y="1989000"/>
            <a:ext cx="44132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ssing a value from the key can also be done by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2087640" y="6018120"/>
            <a:ext cx="529272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map&lt;string, int&gt;::iterator i = m.find(“Carl”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f (i != dir.end()) cout &lt;&lt; (*i).second &lt;&lt; end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95280" y="1143000"/>
            <a:ext cx="8424720" cy="6130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()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map&lt;string, int&gt; dir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dir.insert(make_pair("Carl", 43403));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add to direc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dir["Andy"] = 43409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dir.insert(pair&lt;string,int&gt;("Joost", 43386)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dir["Andy"] &lt;&lt; endl;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access an ent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map&lt;string, int&gt;::iterator 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or (i = dir.begin(); i != dir.end(); ++i) {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print ordered direc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"Name: " &lt;&lt; (*i).first &lt;&lt; " Number:" &lt;&lt; (*i).second &lt;&lt; end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 = dir.find("Carl");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find someone's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f (i != dir.end()) cout &lt;&lt; (*i).second &lt;&lt; end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else cout &lt;&lt; "Name not in directory" &lt;&lt; end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6804000" y="1197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Directory.cpp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5834160" y="5357880"/>
            <a:ext cx="3095640" cy="1465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34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me: Andy Number:434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me: Carl Number:4340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me: Joost Number:4338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340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tion Temp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followed by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mplate paramet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within &lt; &gt;), which is a special kind of parameter that can be used to pass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ype (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s arg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unction templates can use these parameters just like any other regular type (even declaring new objects of that typ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placeholder for the data type used by the function.  The compiler automatically replaces this by an actual type when it creates a specific version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971640" y="2422440"/>
            <a:ext cx="7272360" cy="752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template &lt;class T&gt;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return-type function-name(args){…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39640" y="1525680"/>
            <a:ext cx="82296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generic function is created via the keywor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mpl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tion Temp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4020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we call the function we specify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ype with angle brackets (&lt;…&gt;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146560" y="1484280"/>
            <a:ext cx="3602160" cy="541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template&lt;class T&gt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T GetMax(T&amp; a, T&amp; b) {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T re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f (a &gt; b) res = a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else if (a &lt; b) res = b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return object of type T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re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i=5, j=6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double k = 2.3, l = 5.7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GetMax</a:t>
            </a:r>
            <a:r>
              <a:rPr b="1" lang="en-US" sz="2000" spc="-1" strike="noStrike">
                <a:solidFill>
                  <a:srgbClr val="000000"/>
                </a:solidFill>
                <a:latin typeface="High Tower Text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(i, j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&lt;&lt; end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GetMax</a:t>
            </a:r>
            <a:r>
              <a:rPr b="1" lang="en-US" sz="2000" spc="-1" strike="noStrike">
                <a:solidFill>
                  <a:srgbClr val="000000"/>
                </a:solidFill>
                <a:latin typeface="High Tower Text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(k, l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&lt;&lt; end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500040" y="3286080"/>
            <a:ext cx="4402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mpiler automatically generates a function with T replaced by requested type when function is call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: the type T must have the relational operators &lt; and &gt; defined for calling this function to make sen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900000" y="2782800"/>
            <a:ext cx="3672000" cy="752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unction-name</a:t>
            </a: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&lt;type&gt;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(arg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8317080" y="5952960"/>
            <a:ext cx="576000" cy="785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724360" y="1413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FunctionTemplate.cpp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ultiple Template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114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define more than one generic type using a comma separat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generic types are used in the function args, the type can automatically be worked out by the compiler and so we don’t need to specify it in angle brack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146560" y="1630440"/>
            <a:ext cx="3602160" cy="5140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template&lt;class T, class U&gt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T GetMin(T&amp; a, U&amp; b) {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T re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f (a &lt; b) res = (T)a;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c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else if (a &gt; b) res = (T)b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return object of sam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as first arg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re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i=5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double j = 2.3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GetMin(i, j) &lt;&lt; end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532720" y="6005520"/>
            <a:ext cx="360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116000" y="5789520"/>
            <a:ext cx="32418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GetMin(i, j) &lt;&lt; end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6227640" y="1557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MultiTemplate.cpp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ample: Generic Bubble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9400" y="1268280"/>
            <a:ext cx="86533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rting is the sort of operation for which function templates were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8"/>
          <p:cNvGrpSpPr/>
          <p:nvPr/>
        </p:nvGrpSpPr>
        <p:grpSpPr>
          <a:xfrm>
            <a:off x="250920" y="1844640"/>
            <a:ext cx="8713800" cy="5492880"/>
            <a:chOff x="250920" y="1844640"/>
            <a:chExt cx="8713800" cy="5492880"/>
          </a:xfrm>
        </p:grpSpPr>
        <p:sp>
          <p:nvSpPr>
            <p:cNvPr id="66" name="Text Box 4"/>
            <p:cNvSpPr/>
            <p:nvPr/>
          </p:nvSpPr>
          <p:spPr>
            <a:xfrm>
              <a:off x="250920" y="1844640"/>
              <a:ext cx="3816360" cy="5492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template&lt;class T&gt;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void bubble(T* sample, int size) {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T swap;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for (int i = 1; i &lt; size; i++) {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for (int j=size-1;j&gt;=1; j--)  {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  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if (sample[j-1] &gt; sample[j]) {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            </a:t>
              </a:r>
              <a:r>
                <a:rPr b="0" lang="en-GB" sz="2000" spc="-1" strike="noStrike">
                  <a:solidFill>
                    <a:srgbClr val="333399"/>
                  </a:solidFill>
                  <a:latin typeface="High Tower Text"/>
                </a:rPr>
                <a:t>//exchange element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     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swap = sample[j-1];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     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sample[j-1] = sample[j];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     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sample[j] = swap;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High Tower Text"/>
                </a:rPr>
                <a:t>          </a:t>
              </a:r>
              <a:r>
                <a:rPr b="0" lang="en-GB" sz="19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High Tower Text"/>
                </a:rPr>
                <a:t>      </a:t>
              </a:r>
              <a:r>
                <a:rPr b="0" lang="en-GB" sz="19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GB" sz="19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5"/>
            <p:cNvSpPr/>
            <p:nvPr/>
          </p:nvSpPr>
          <p:spPr>
            <a:xfrm>
              <a:off x="4284720" y="1844640"/>
              <a:ext cx="4680000" cy="4982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int main() {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int iarray[] = {7,5,9,3,6};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double darray[] = {4.3,2.5,10.2, 3.0, 1.1};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bubble(iarray, 5); bubble(darray, 5);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for (int i = 0; i &lt; 5; i++)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cout &lt;&lt; iarray[i] &lt;&lt; “, ”;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cout &lt;&lt; endl;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for (int i = 0; i &lt; 5; i++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cout &lt;&lt; darray[i] &lt;&lt; “, ”;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cout &lt;&lt; endl;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return 0;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"/>
            <p:cNvSpPr/>
            <p:nvPr/>
          </p:nvSpPr>
          <p:spPr>
            <a:xfrm>
              <a:off x="6445080" y="5950080"/>
              <a:ext cx="2448000" cy="785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, 5, 6, 7, 9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.1, 2.5, 3, 4.3, 10.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10"/>
          <p:cNvSpPr/>
          <p:nvPr/>
        </p:nvSpPr>
        <p:spPr>
          <a:xfrm>
            <a:off x="1763640" y="638172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BubbleSort.cpp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6732720" y="1808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BubbleSort.cpp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lass Temp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83840"/>
            <a:ext cx="8229600" cy="8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also write generic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lass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which can be used for storage and manipulation of any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68360" y="321156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we create a specific instance of that class we must again pass the type in angle brackets (&lt;…&gt;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763640" y="2492280"/>
            <a:ext cx="5616720" cy="752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template &lt;class T&gt;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class class-name {…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468360" y="5229360"/>
            <a:ext cx="822960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ember function declared outside class declaration must always be preceded with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mplate&lt;…&gt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efix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843280" y="4438800"/>
            <a:ext cx="3529080" cy="752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lass-name </a:t>
            </a: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&lt;type&gt;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objec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lass Temp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79640" y="4076640"/>
            <a:ext cx="5113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used by so many T’s.  There are 3 T’s in this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is template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 is return type of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one (in brackets) specifies that the function’s template parameter is also the class template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95280" y="1413000"/>
            <a:ext cx="3319560" cy="5799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templated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template &lt;class T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lass mypair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T a, b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ublic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mypair (T first, T secon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{a=first; b=second;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T getmax 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member function: must b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preceded by template&lt;…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template &lt;class T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T mypair&lt;T&gt;::getmax () {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T re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f (a &gt; b) res = a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else if (a &lt; b) res = b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re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995640" y="1413000"/>
            <a:ext cx="4824360" cy="2781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 (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specify actual type in angle brack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mypair &lt;int&gt; myints (100, 75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mypair &lt;float&gt; myfloats(6.3,32.4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myints.getmax()    &lt;&lt; “\t“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&lt;&lt; myfloats.getmax() &lt;&lt; end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7164360" y="3484440"/>
            <a:ext cx="1584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2.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268360" y="623736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MyPair.h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6156360" y="1413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ClassTemplate.cpp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mplate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5584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define a different implementation for a template when a specific type is passed as template parameter =&gt; This is called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alis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that temp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e we precede the declaration with a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emplate parameter (template&lt;&gt;) and place the type for which we are specialising in angle brackets after the class 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260360" y="4076640"/>
            <a:ext cx="6740640" cy="1382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template &lt;&gt;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class class-name&lt;specific-type&gt; {…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High Tower Text"/>
              </a:rPr>
              <a:t>//contrast to template</a:t>
            </a:r>
            <a:r>
              <a:rPr b="1" lang="en-US" sz="2300" spc="-1" strike="noStrike">
                <a:solidFill>
                  <a:srgbClr val="333399"/>
                </a:solidFill>
                <a:latin typeface="High Tower Text"/>
              </a:rPr>
              <a:t> </a:t>
            </a:r>
            <a:r>
              <a:rPr b="0" lang="en-US" sz="2300" spc="-1" strike="noStrike">
                <a:solidFill>
                  <a:srgbClr val="333399"/>
                </a:solidFill>
                <a:latin typeface="High Tower Text"/>
              </a:rPr>
              <a:t>&lt;class T&gt; class class-name {…};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46040" y="501336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we declare a specialisation of a class we must define all it’s members, even if same as generic template class (since  there is no “inheritance” between the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mplat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unct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n similarly be speciali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14:43:26Z</dcterms:created>
  <dc:creator>Administrator</dc:creator>
  <dc:description/>
  <dc:language>en-US</dc:language>
  <cp:lastModifiedBy>gwilliam</cp:lastModifiedBy>
  <dcterms:modified xsi:type="dcterms:W3CDTF">2008-10-27T11:40:29Z</dcterms:modified>
  <cp:revision>218</cp:revision>
  <dc:subject/>
  <dc:title>Slide 1</dc:title>
</cp:coreProperties>
</file>